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20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9.xml.rels" ContentType="application/vnd.openxmlformats-package.relationships+xml"/>
  <Override PartName="/ppt/slides/_rels/slide132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8.xml.rels" ContentType="application/vnd.openxmlformats-package.relationships+xml"/>
  <Override PartName="/ppt/slides/_rels/slide15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83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24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99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9F58-C275-4318-8836-6D0EDC05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AD7F-3E34-444B-A03A-3D6DD7F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79447-48C3-431F-9612-0204F888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0B97-706E-44B5-A38C-0E473401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B9D7-2FD3-4AA2-91C6-A908B36D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2004-23BC-4276-A1B8-331867D7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609B-5762-43BD-A593-D4CC7BB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139C-C4AC-4F8F-8107-1909E1C9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A1DE-EDD0-4631-900B-E1FEB0E2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7D1E-312A-4405-99BC-FF910626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F257-92FE-4DBF-A712-90931C9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BF6B-819E-422D-A276-33153A35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FC6E-CF3D-4460-91BF-B66E94D9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03EC-4AA3-42F1-88E5-00F7239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6F44-15F5-4448-A8DC-C15C432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8A9D-B4AE-47DF-AAF5-3866E3CF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2E49-4566-459E-AB4B-8A6BE466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BF56-9D67-4BBA-94DF-D344A901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0AE2-7784-4079-BBFD-B1151D45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AC38-E514-40FA-9312-A536BFA1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B350-F410-4D46-9209-C91A354C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B94D-546D-48A0-A08C-A9BDDB4A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828B-C8A1-4B01-9431-59DCD93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7868-4DE1-4D0A-B946-847D2AB0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9496-C24A-40BA-B7A6-06DDD92A8B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8BD0-3DF1-4CD3-B63F-A96ECC215D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http://36.cz/" TargetMode="External"/><Relationship Id="rId2" Type="http://schemas.openxmlformats.org/officeDocument/2006/relationships/hyperlink" Target="http://36.cz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435600" y="638640"/>
            <a:ext cx="100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готовляя приборы, радиолюбитель может, пользуясь приводимыми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ниге рекомендациями и типовыми устройствами, проводить измерения на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товленных им макетах — выпрямителях, одиночных каскадах усиления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я звуковой частоты, мощности и т. 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брав на куске картона макет устройства, радиолюбитель сможет пров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ть, как изменятся его параметры при изменении номиналов деталей, и с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ть соответствующие выводы. Для питания макетов используются источн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 постоянного тока 10 и 300 В и переменного тока 6,3 В, получа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ые от осциллографа, который в данном случае является и блоком пит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спериментальных устройств. Порядок измерений в более сложной радиоап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аратуре иллюстрируется структурными схемами, приведенными в кни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ниге описан также ряд простых дополнительных узлов, расширяющ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можности осциллографа и пополняющих лабораторию радиолюб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воей нрактике радиолюбителю нередко приходится проводить прост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четы. С учетом этого в заключительной части приведены некоторые све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 справочного характера, расчетные форму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териал в книге излагается в кратком виде, процессы в схемах опис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ся без приведения каких-либо громоздких формул, поскольку учитыва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, что для более глубокой проработки возникающих вопросов читателю не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жно придется обращаться к специальной литер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оторой накапливается магнитная энергия. Инерция позволяет катушке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пливать получаемую энергию в течение определенного временя и возвращ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е конденсатору, как только он разрядится. Так в конту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озникают ко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ния электромагнитной энергии — электрические колебания. В нашем случа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чиной, вызвавшей колебания в контуре, был первоначальный заряд, пол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нный конденсатором от батареи. Из-за неизбежных потерь энергии на со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влении провода катушки колебания в контуре, начавшись, довольно быстр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кращаются, затухаю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ие колебания так н называются — затухающими (рис. 2,6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конденсатор попеременно присоединять то к батарее, то к катушке^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 колебания в контуре можно будет поддерживать постоянно. Такие ко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ния называют незатухающими (рис. 2,е). На практике конденсатор под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ют к источнику заряда с помощью радиолампы ялн транзистора. Соответ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ующим образом составленная схема включения лампы (транзистора) в цеп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у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озволяет создать в нем незатухающие колебания с частотой, з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сящей от емкости конденсатора и индуктивности катушки. Если к кон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соединить антенну А, то колебания начнут излучаться через антенну в о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жающее пространство — возникнут радиовол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овое устройство с антенной, в которое включен контур &gt;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нашем случае передатчиком. Конечно, лампа сама по себе не создает энер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ию, она черпает ее от источника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батареи, выпрямителя). Ч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ьше это напряжение я отдаваемый лампе ток, тем больше мощность ко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ний, излучаемых антенно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.4. Генератор высокой частоты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енератор высокой частоты (ГВЧ, рис. 27) является источником вы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кочастотных синусоидальных колебаний. Их частоту изменяют с помощ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ременного конденсатора С4 в пределах от 100 до 550 кГц. Выходное п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регулируется в пределах 0... 2 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включен по схеме с емкостной обратной связью, котор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уществляется через конденсатор СЗ. В цепи коллектора транзистора нах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тся колебательный контур, состоящий из катушк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конденсатора переме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й емкости С4. 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 включены для обеспечения необход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го режима работы транзистора по постоянному току. Для подгоики реж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а используют подстроечный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Напряжение высокой частоты сн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ается с движка переменного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, используемого в качестве регул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а выходного напряжения генератора. Конденсатор С6 — разделительны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сопротивление подключаемой к ГВЧ цепа превышает 20... 30 кОм (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вый каскад), то выходное напряжение снимается через разделительный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сатор С5 с гнезда Х4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нератор можно использовать в режиме с амплитудной модуляцией. М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улирующее напряжение звуковой частоты подают на гнездо XI и через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зделительный конденсатор С1—на базу транзистора. Модулирующее на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яжение изменяет с частотой модуляции режим транзистора и соответствен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о амплитуду высокочастотных колебаний. Источник модулирующего напря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жения должен иметь регулятор уровн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ходного сигнала для подбора глуби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ы модуляции. В качестве источника м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улирующего сигнала можно использ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ать описанный ранее ГЗЧ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енератор питается, от источника на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яжения —10 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тушк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намотана на каркас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иаметром 8 и длиной 25 мм и содержи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80 витков провода ПЭВ-0,1, намотанных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навал. Ширина намотки 10 мм. Конц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тушки закрепляют на каркасе с пом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2949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72280" y="3859920"/>
            <a:ext cx="56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 27. Принципиальная схема гене- ленты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ачестве пер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тора высокой часто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конденсатора С4 использован мало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абаритный сдвоенный блок переменных конденсаторов с воздушным диэлект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 с наибольшей емкостью 350 пФ, имеющий ось с замедлением вращения т 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верньерным механизмом. Можно использовать любой переменный конденсат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подходящей емкостью, желательно с воздушным диэлектриком. Вместо транз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ов П416 можно применить любой высокочастотный транзистор структур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р. При замене транзистора, возможно, потребуется регулировка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собирают на плате из картона, закрепляемой после сборки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анели, как и ГЗЧ. Панель размещают в корпусе, подобном по конструк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рпусу ГЗЧ. На панели устанавливают шкалу с делениями (180°), иа ос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лока конденсаторов переменной емкости укрепляют стрел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высокой частоты является источником сигналов высокой ч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ты, используемым для проверки прохождения сигналов через высокочасто 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е цепи радиоприемников, в процессе которой зачастую не обязательно зи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ное значение частоты сигнала. Для проверку генератора используют 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ллограф, подготовленный для измерения переменного напряжения. Пере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ереводят в положение «Пластины». Гнездо «Вход~» осциллог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а присоединяют к выходу ГВЧ (гнездо Х4 или Х5).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ллографа устанавливают в положение, соответствующее наивысшей ча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 развертки, регулятор «Усиление» — в положение наибольшего усиле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С4 в ГВЧ -—на наибольшую емкость. Подбира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ВЧ, получают на экране горизонтальную полосу высотой 10... 15 мм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видетельствует о наличии колебаний в генераторе. Регуляторами «Частота»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Синхронизация» осциллографа добиваются получения 10—15 периодов син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идального колебания на экране. При уменьшении емкости конденсатора С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периодов должно увеличивать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проверяют работу генератора в режиме, модуляции. Для этого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ьзуют ГЗЧ. Напряжение с выхода ГЗЧ подают иа гнездо XI ГВЧ. На э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не осциллографа должно появиться изображение амплитудно-модулиров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ых колебаний. Изменяя уровень сигнала звуковой частоты, можно изменя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лубину модуляции. Коэффициент модуляции М можно измерить, используя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я иа шкале осциллографа. Для этого подсчитывают число делений от верх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го максимума до нижнего (А) я от верхнего минимума до нижнего (Б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эффициент модуляции буде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—Б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=—— -100%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+Б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итания генератора используют источник напряжения —10 В осцил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афа или батарею примерно с таким же напряжением. При исправных дет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х и правильной сборке генератор начинает работать сразу же после под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 питающего напряжения. При отсутствии генерации следует вместо резистор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установить резистор с номиналом 51 кОм и регулировкой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биться нормальной' работы. В противном случае необходимо заменить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 и вновь подобрать режим с помощью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5. Измеритель сопротивлений и емкосте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бходимость в измерении сопротивлений резисторов или емк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ов возникает у радиолюбителя весьма часто. В то же время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ять индуктивность тргнсформаторов и других намоточных изделий приходит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58920" y="1052640"/>
            <a:ext cx="6840360" cy="3600000"/>
            <a:chOff x="1258920" y="1052640"/>
            <a:chExt cx="6840360" cy="3600000"/>
          </a:xfrm>
        </p:grpSpPr>
        <p:pic>
          <p:nvPicPr>
            <p:cNvPr id="2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356840" y="1052640"/>
              <a:ext cx="661464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258920" y="4071960"/>
              <a:ext cx="6840360" cy="580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Рис. 28. Принципиальная схема моста для измерения сопротивлений и емкости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0000"/>
                </a:lnSpc>
                <a:spcBef>
                  <a:spcPts val="1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а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— функциональная схема;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— мост с переменным резистором;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в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— практическая схема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моста;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Garamond"/>
                </a:rPr>
                <a:t>г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— вил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с. 28. Принципиальная схема моста для измерения сопротивлений и емкости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функциональная схема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б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мост с переменным резистором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практическая схем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ста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г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вилк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я крайне редко. Поэтому описываемое устройство рассчитано для измере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лько сопротивления резисторов и емкости конденсаторов мостовыми устрой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вам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хема моста для измерения сопротивлений в общем виде приведена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с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28,а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десь резистор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образуют плечи, а линия а—в и б—г—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агонали моста. К диагонали а—в подводится переменное напряжени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; 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агонали б—г присоединяют индикатор, роль которого в нашем случае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няет осциллограф. Если изменять сопротивления плеч, то можно добит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я такого положения, при котором в диагонали б—г напряжение станет ра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ым нулю, несмотря на то, что в диагональ а—в подано напряжени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жду точками б—г не будет напряжения только в том случае, если пад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я на участке а—б будет равно падению напряжения на участке а—г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адение напряжения на участке б—в будет равно падению напряжения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частке в—г. В этом случае мост будет сбалансирован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Момент баланса определителя по нулевым показаниям осциллографа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е положение будет иметь место при равенстве отношений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сли в трех плечах включены резисторы с известными сопротивлениями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противление четвертого резистора, наприме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K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установленного вместо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определить при достижении баланса по формул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K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(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). У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новив вместо двух 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переменный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(рис. 28,6)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сопротивлением, равным сумме сопротивлений двух резисторов, а вместо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—резистор с известным сопротивлением (эталонный резистор), можно оп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лить неизвестное сопротивление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K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когда при регулировке пе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нного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напряжение в диагонали б—г спадет до нуля. Част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деления сопротивлений плеч переменного резистора, умноженное иа со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вление эталонного резистора, и даст искомый результат — сопротивление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*. Если переменный резистор снабдить шкалой, то процесс изме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я сведется к определению момента баланса при регулировке переменно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зистора и нахождению на заранее отградуированной шкале искомого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ультата. Если вместо эталонного резистора установить конденсатор с извес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емкостью Сэ, то можно будет измерять емкость конденсаторов. Сопроти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ие переменного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не критично, так как при измерении учит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ается ие оно, а отношение сопротивлений его участков (плеч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"2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с. 28,6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актическая схема моста для измерения сопротивлений и емкостей п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а на рис. 28,е. Она дает возможность измерять сопротивление резистор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пределах 50... 40 ООО Ом (при эталонном резисторе 1 кОм), 500 ... 400 ООО 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10 кОм), 5 кОм ... 4 МОм (100 кОм) и емкость конденсаторов в предел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0 пФ... 0,5 мкФ и 0,01 ... 5 мкФ (при эталонных конденсаторах емк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0,01 и 0,1 мкФ соответственно). Наибольшая точность измерений, как и у вс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го мостового устройства, получается при среднем положении движка пе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Деления иа шкале распределяются нелинейно, но э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имеет существенного значения.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и конденса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С2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анавливают в качестве эталонных в гнезде XI и Х2, а подлежащий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нию резистор или конденсатор присоединяют к гнездам Х5, Х6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ст собирают на плате, укрепляемой на панели и устанавливаемой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дходящий корпус. В качестве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спользован рез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 с линейной характеристикой (тип А). Все резисторы, а также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ы могут иметь отклонения от номиналов, обозначенных на схеме. Од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, не влияя на точность измерений, это приведет к смещению пределов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ения в ту или другую сторону. Осциллограф присоединяют к гнезда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З, Х4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панели размещают один переменный резистор и шесть гнезд. Этал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 резистор (или конденсатор) устанавливают в корпус штепсельной вил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ис. 28,г). В качестве корпуса можно использовать часть флакона цилинд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кой формы из синтетического материала (упаковка от лекарства, дета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тской игрушки и т. д.). В донышке флакона устанавливают два штыр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тепсельной вилки. Выводы резистора (конденсатора) закрепляют с помощ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аек. Сверху корпус закрывают крышкой, на которой указывается номинал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и (1 к, 10 к и т. д.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желании в конструкции можно установить переключатель на пя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жений и с его помощью переключать эталонные резисторы и конденса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ы. Определенное внимание нужно уделить изготовлению шкалы. Из плот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умаги делают две одинаковые по размерам шкалы: первую используют пр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адуировке, а на вторую, чистовую, наносят окончательные 'сопротивления 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мкости. К ручке, надеваемой на ось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, прикрепляют пластину из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рганического стекла с нанесенными иа нее двумя продольными рисками.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ключения параллакса при отсчете риски должны быть сделаны с обеих 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он пластины одна под другой. Для большой заметности в риску втираю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рную пасту, например от шариковой ручки, или черный пластилин. Шкал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иксируют иа плате с помощью крепежной гайки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жде чем приступить к измерениям, необходимо отградуировать мос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помощью магазина сопротивлений от 50 Ом до 4 МОм и эталонных конд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аторов. В крайнем случае градуировку можно осуществить с помощью наб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 возможно более точных резисторов и конденсаторов. Чем большее числ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их деталей будет использовано при градуировке, тем более «полной» буде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кала измерителя. Градуировку выполняют в следующем порядке. С гнездами ХЗ, Х4 соед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яют «Вход ~» и гнездо «Общая шина» осциллографа. Его переключатель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переводят в положение «Усилитель», регулятор «Усиление» — в средне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жение, а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— в положение «Вход X». К мосту подв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ят напряжение 6,3 В от осциллографа. Включив и прогрев осциллограф, у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навливают в гнезда XI, Х2 моста эталонный    резистор    сопротивление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кОм. В гнезда Х5, Х6 помещают используемый для градуировки резис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противлением 50 Ом. Поскольку генератор развертки осциллографа откл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н, то на экране вместо горизонтальной линии развертки будет вертика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я. Момент баланса моста определяют по резкому уменьшению длины лиии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н вращении ручки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моста. Для более точной балансировки у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ие увеличивают. Убедившись в балансировке моста, на шкале отмечают соотве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вующее деление (60 Ом). Далее в те же гнезда устанавливают следующий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истор в порядке возрастания значений, например 75 Ом, и повторяют с иим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есс градуировки. Таким образом на шкалу наносят сопротивления для одно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а 'измерений. Затем в гнезда XI, Х2 устанавливают эталонный резис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кОм и градуируют .мост для второго предела измерений, затем 100 кОм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етьего и, наконец, установив в те же зажимы эталонные конденсаторы 0,01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 0,1 мкФ, завершают градуировку прибора. Теперь данные, записанные пр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адуировке на черновой шкале, аккуратно переносят на чистовую, после че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бор можно эксплуатировать. Измерения проводят так же, как проводил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адуировку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3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ВЕРКА РАДИОСХ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готовив приборы, радиолюбителю следует научиться правильно и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менять, начав с измерений в простейших узлах, используемых в люб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диоэлектронной аппаратуре, например в выпрямителях, однокаскадиых у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телях звуковой и радиочастоты, детекторах и пр. Макет узла, учитывая е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начение, собирают на куске картона без соблюдения каких-либо особ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авил монтажа. Необходимо лишь придерживаться номиналов деталей, ук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нных на принципиальной схеме. Следует иметь в виду, что если установ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«не того» резистора как правило, не представляет опасности для лампов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ройства, то в транзисторном каскаде это может привести к выходу из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роя транзистора или возрастанию зависимости параметров радиодеталей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мпературы окружающей среды, т. е. к нарушению стабильности работы к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да. Что касается конденсаторов, то отклонение их емкости от номинала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широких пределах вполне допустимо как в ламповых, так и в транзистор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хемах, за исключением тех случаев, когда конденсаторы используются в кач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ве элементов настройки или для формирования частотной характеристики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перь представим себе, что напряжение питания на лампу поступает ч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 угольный микрофон, сопротивление которого, как известно, может изм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яться, если перед микрофоном -издается звук. Это приведет к тому, что напря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жение «а лампе, необходимое для ее работы и фуякциэнярования передатч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, может изменяться и принимать первоначальное значение в такт со звукам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д микрофоном, а это, в свою очередь, приведет к периодическому измен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ю амплитуды колебаний, 'излучаемых антенной, происходящему также в так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о звуком перед микрофоном. В этом случае передатчиком будут излучать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 просто незатухающие колебания, а модулированные, т. е. с изменяющейся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кт со звуком амплитудой. В данном случае колебания модулируются по амп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итуде, поэтому их называют амплитудио-модулированными (рис. 2,г). Есл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мплитудно-модулированные колебания, излучаемые антенной передатчика, бу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ут приняты антенной радиоприемника, то можно осуществить передачу 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ем информ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1. Выпрямите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начение выпрямителя в радиоустройстве — преобразовать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е переменного тока, имеющееся в электросети (или другом источнике)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постоянного тока, необходимое для питания радиоаппарата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 выпрямителя показана на рис. 29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 выпрямителя В поступает переменное напряжение сигна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длежащее выпрямлению. Выпрямл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„ иа выходе содер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ит переменную составляющую, или пульсации. Чтобы из выпрямлен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получить напряжение постоянного тока, пульсации необходимо ус-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ить. Для этого на выходе выпрямителя устанавливают сглаживающ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ильтр Ф, элементы которого оказывают разное сопротивление переменном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постоянному току. В результате на выходе фильтра получается напряжени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практически постоянного ток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определения уровня пульсаций определяют коэффициент пульсац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Р0 на выходе выпрямителя: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„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| где I! Л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соответственн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пульсаций и постоянное напряжение на выходе выпрямителя. К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эффициент пульсаций на выходе фильт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„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, где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—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е пульсаций и постоянное напряжение на выходе фильтра. Чем меньш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эффициент Р, гем лучше выпримлено напряжение. К примеру, значение 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сетевых радиоприемников, высококачественных усилителей звуковой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ы н других подобных устройств не должно превышать 0,001 ... 0,005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глаживающие свойства фильтра оценивают коэффициентом сглаживания!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с, показывающим, во сколько раз коэффициент . пульсаций Р на вых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ильтра меньше коэффициента пульсаций Р0 на его входе, т. е. на вых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я: к0 = Ро/Р. В отдельных случаях для ловышения кс применя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вухзвенный фильтр, т. е. к имеющемуся фильтру добавляют еще одну ячей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у, состоящую из дросселя и конденсатора. В этом случае общий коэффициен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глаживания будет равен произведению коэффициентов кс  каждого фильт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нципиальные схемы выпрямителей выбираются как-по техническим показ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лям (необходимые значения напряжения, тока, мощности), так и по эко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ическим соображениям (стоимость радио- и прочих деталей). В массовой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оэлектронной аппаратуре широко используют однополупериодные и двух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упериодные выпрямители, мостовые, а также выпрямители с умножением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смотрим практические схемы выпримителей с трансформатором.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честве трансформатора используем выходной трансформатор кадровой ра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ртки (ТВК) от унифицированных черно-белых телевизоров «Рубин», «Темп»1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т. д. Можно применить также выходной трансформатор звука от люб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ампового телевизора или радиоприемника. Если на обмотку с меньшим ч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м витков (назовем ее первичной) подать переменное напряжение 6,3, вз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е от осциллографа (гнезда Х8, Х9), то на концах обмотки с большим ч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м витков (вторичной) появится напряжение 40... 60 В. Использование пр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экспериментах с выпрямителями этого относительно небольшого напряжения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добно с точки зрения техники безопасности. Во всех фильтрах использу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россель от любого лампового радиоприемника. Иногда, однако, более выг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 установить вместо дросселя резистор сопротивлением 400... 500 Ом, мощ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стью 2 В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оценки разтичных схем выпрямления, проверяемых радиолюбителем^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лесообразно составить таблицу сравнительных данных. В таблице следует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писать характерные параметры выпрямителей, например отношение пере"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ного напряжения, подлежащего выпрямлению, к постоянному напряжению'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ыходе фильтра. Представляют интерес и частота пульсаций в различиых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ях, коэффициент пульсаций на входе и иа выходе фильтра, о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ее число радиодеталей в различных выпрямителях с фильтром. По данны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таблицы можно будет выбрать вариант выпримителя для того или иного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оустройства, конструируемого радиолюбител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днополупериодная схема. На рис. 30,а изображена принципиальная сх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а однополупериодного выпрямителя с фильтром. Напряжение со вторич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мотки трансформатора Т1 через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оступает на диод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  Вы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мл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выделяется на конденсаторе С1. Для сглажив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я пульсаций используется фильтр, состоящий из дроссел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 конденса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 С2. К выходу фильтра подключен резистор нагрузки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. Резистор.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ываемый балластным |(5... 10 Ом), устанавливается -иногда для огранич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пульса тока, проходящего через диод в момент включения     выпрямител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отсутствии резистора возможен пробой диод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ервым же больши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пульсом тока. В рассматриваемом случае установка этого резистора необ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тельна, так как в выпрямителях с небольшим выпрямленным напряжение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пульсный ток через диод достаточно ограничен   сопротивлением   обмот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сформатора. Балластное сопротивление не требуется и лри использован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выпрямителе селеновых столбов, поскольку их внутреннее сопротивление д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аточно велико, что снижает импульс тока.Рис. 30. Схема однополупериодного выпрямителя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м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 принципиальная схема; б — зависимость выходных напряжений от емкости конденса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в фильтра;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 нагрузочная характеристи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ь работает следующим образом. Под действием положите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х полуволн переменного напряжения вторичной обмотки трансформато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1 через диод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роходит пульсирующий ток. Конденсатор С1, заряжаяс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пульсами тока, накапливает электрическую энергию. На нем растет выпря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д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оскольку емкость конденсатора велика, ои не усп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ет разрядитьси за время между импульсами тока, и поэтому напряжение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е при отсутствии нагрузки достигает максимального значения пе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684360" y="1052640"/>
            <a:ext cx="6984720" cy="4320720"/>
            <a:chOff x="684360" y="1052640"/>
            <a:chExt cx="6984720" cy="432072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878760" y="1052640"/>
              <a:ext cx="6570360" cy="36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84360" y="4868280"/>
              <a:ext cx="698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30. Схема однополупериодного выпрямителя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5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ffffff"/>
                  </a:solidFill>
                  <a:latin typeface="Franklin Gothic Medium"/>
                </a:rPr>
                <a:t>м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принципиальная схема; б — зависимость выходных напряжений от емкости конденсато-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ов фильтра; </a:t>
              </a:r>
              <a:r>
                <a:rPr b="0" i="1" lang="ru-RU" sz="1400" spc="-1" strike="noStrike">
                  <a:solidFill>
                    <a:srgbClr val="ffffff"/>
                  </a:solidFill>
                  <a:latin typeface="Franklin Gothic Medium"/>
                </a:rPr>
                <a:t>в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нагрузочная характеристи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менного напряжения, имеющегося на вторичной обмотке, и сохраняется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м уровне, пока выпрямитель включен. Несмотря на импульсный характе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-тока, проходящего через диод, напряжение на выходе выпрямителя благодаря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копительному действию конденсатора С1, оказывается не импульсным 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 сглаженным. Оставшиеся пульсации выпрямленного напряжения подавляютсч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росселе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и конденсатором С2. Сопротивление дросселя переменному ток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(пульсациям) значительно (обычно 1... 10 кОм), в то же время для постоя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составляющей выпрямленного тока (дли постоянного тока) его сопроти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ие оказывается в 10... 20 раз меньшим. Таким образом, пульсации посл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росселя будут сильно ослаблены, тогда как постоянная составляющая прой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т через дроссель без заметного ослабления. Конденсатор С2, наоборот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ставляет собой почти нулевое сопротивление для пульсаций. Поэтому и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е С2 пульсации практически полностью отсутствуют и на выход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ильтра имеется только напряжение постоянного ток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к уже говорилось, диод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пропускает ток только при положите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полуволне напряжения на верхнем по схеме конце обмотки II. При от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ательной полуволне диод не может пропускать ток, однако в этот момент 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го выводам будет приложено напряжение, равное сумме напряжения на ко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нсаторе С1 и максимального значения напряжения обмотки II. Это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, различное для разных выпрямлений, называется обратным напря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м диода. Оно обычно превышает напряжение иа вторичной обмотке трансфор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ора, что должно быть учтено при выборе диода. Допустимое обратное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 указывается в паспорте, прилагаемом к диоду. В однопОлупериодн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прямителе обратное напряжение почти в 3 раза превышает выпримленное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этому в качестве диод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можно использовать выпрямительный диод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тным напряжением не менее 150 В. При токах нагрузки, не превыша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щих 5... 10 мА, вместо дросселя можно применять резистор сопротивление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500 Ом до 5 .. 10 кОм. Такой фильтр значительно дешевле, чем с катуш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й индуктивности, меньше он и по размерам. Выпрямитель провериют в с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ующем порядке. К выводам первичной обмотки трансформатора Т1 от гнезд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Х7 и Х8 осциллографа подводится переменное напряжение 6,3 В. Осциллограф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дготавливают для измерения напряжения переменного тока. Измеряют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ис на вторичной обмотке (точка 1). Затем определяют напряж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ульсаций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на конденсаторе С1 (точка 2). После этого измеряют выпря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ное напряжение иа конденсаторе С1. Для этого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пе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ит в положение «Пластины», а измеряемое напряжение подают на гнезд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Х2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кольку на конденсаторе имеются и переменное и постоянное напря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я, то измерение постоинного напряжения выполняют следующим образом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переводят в положение «Вход X». На экране будет верт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льная линия, поскольку переменная составляющая напряжения на конденс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е С1 отклоняет вверх и вниз луч ЭЛТ. Отключив входной кабель от ко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нсатора, устанавливают точку на экране на деление, принимаемое за ноль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атем входной кабель присоединяют к конденсатору С1. На экране появляе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 вертикальная линия, центр которой отмечают на шкале. Подсчитав числ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лений между центром линии и нулевым делением и зная цену одного де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я, определенную заранее, находят значение постоянного напряжени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и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е О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атем подсчитывают коэффициент пульсаций Ро иа выходе выпрямите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(иа конденсаторе С1), измеряют напряжение пульсаций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   и выпрямлен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 (точка 3) на выходе фильтра, определяют коэффициент пу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аций Ро иа конденсаторе   С2, коэффициент   сглаживания К и    отношение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. После этого увеличивают последовательно в 10, 100 и 200 раз емкость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5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сначала конденсатора С1, а затем С2. Для каждого значения определяют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пульсаций, выпрямленное напряжение, коэффициент пульсаций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ходе фильтра и т. д. По полученным данным строят график (рис. 30,6), из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ого определяют оптимальную емкость конденсаторов С1 и С2, т. е. т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начения, дальнейшее увеличение которых, не сказываясь на выходном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и, приведет к необходимости устанавливать в фильтре более дорог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ы, что технически и экономически неоправданно. Устанавливая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фильтре конденсаторы с оптимальной емкостью, снимают нагрузочную хара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ристику выпрямителя, т. е. зависимость напряжения постоянного тока и к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ффициента пульсаций на выходе фильтра от сопротивления нагруз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.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узки уменьшают до 1, 2 и 5 кОм (все резисторы мощностью 2 Вт).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ждого случая измеряют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, подсчитывают ток I (мА), потребляемый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рузкой, по формуле 1= 1000-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, коэффициент пульсаций Ро. По получ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ым данным строят график, подобный изображенному на рис. 30,е, показыва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щий, как изменяется напряжение на выходе выпрямителя при изменении с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тивления нагрузк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заключение измеряют частоту пульсаций на входе фильтра. На вход 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иллографа (гнездо XI) подают пульсирующее напряжение с точки 2. На гн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до Х4 с гнезда Х10 подается напряжение частотой ЮО Гц. На экране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явятся яркие метки с частотой 100 Гц. На один период кривой пульсирующ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о напряжения придется две .метки, т. е. частота пульсаций будет 100 : 2=50 Гц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ультаты исследований однополупериодного выпрямителя заносят в сра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тельную таблиц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вухполупериодный выпрямитель (рис. 31). Если в однополупериодн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е используется один полупериод переменного напряжения, то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анном выпрямителе, как показывает название, оба периода перемен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тобы собрать выпрямитель, необходим трансформатор с отводом 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ередины вторичной обмотки, что, кстати, можно отнести к недостаткам ус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йства. В данном случае этот отвод (средняя точка) создается искусствен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помощью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с одинаковыми сопротивлениями, на которых вы-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ляются равные по амплитуде, но противоположные по фазе переменные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оэтому переменные напряжения на диод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тупают в противофазе и токи через них, заряжающие конденсатор С1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текают не одновременно, а попеременно, когда положительная полувол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априжении обмотки оказывается приложенной к тому нли другому диоду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казанное ранее об обратном напряжении диодов справедливо и для двух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лупериодного выпрямителя. Здесь можно использовать выпрямительные ди-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ды с обратным напряжением не менее 150 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рядок проверки выпрямителя следующий. На первичную обмотку тран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орматора Т1 подают переменное иаприжение 6,3 В от осциллографа, подг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вленного для измерения переменного напряжения. Измеряют напряжения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рхнем и нижнем выводах вторичной обмотки Т1, которые должны быть од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ковы по отношению к общей шине. Если эти напряжения заметно отлич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тси друг от друга, то для их выравнивания следует подобрать одни из рез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ров, причем не имеет значения какой. Затем измеряют напряжение пу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аций на конденсаторе С1 и выпрямл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описанным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е способом и находят коэффициент пульсаций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763640" y="1557360"/>
            <a:ext cx="6912000" cy="2879280"/>
            <a:chOff x="1763640" y="1557360"/>
            <a:chExt cx="6912000" cy="2879280"/>
          </a:xfrm>
        </p:grpSpPr>
        <p:pic>
          <p:nvPicPr>
            <p:cNvPr id="27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63640" y="1557360"/>
              <a:ext cx="6912000" cy="22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888200" y="3975480"/>
              <a:ext cx="29361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Рис. 31. Схема двухполупериодно-</a:t>
              </a:r>
              <a:br>
                <a:rPr sz="1600"/>
              </a:b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го выпрямител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определяют напряжение пульсаци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^, выпрямленное напряжени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и коэффициент пульсаций Р на выходе фильтра, подсчитывают коэффиц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нт фильтрации К и отнош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величивают в 10, 100, 200 раз емкость конденсатора — сначал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том С2 и измерения повторяют. По полученным данным строят график,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бный приведенному на рис. 30,6. Из графика находят оптимальные емк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еатороз С1 и С2. Затем при оптимальных емкостях изменяют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 нагрузки, устанавливая вместо указанного на схеме резисторы с ном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ами 5, 2 и 1 кОм. Для каждого резистора подсчитывается 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. По полученным данным строят график зависимости напряжения постоя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тока на нагрузке от ее сопротивления (рис. 30,е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заключение измеряют частоту пульсаций. Полученные при проверке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мителя данные сводят в таблиц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стовое устройство. Оно (рис. 32) не требует вторичной обмотки с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ной средней точкой, но содержит вдвое большее число диодов. В мо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м устройстве выпрямляются оба полупериода переменнее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. е. оно является двухполупериодным. При положительной полуволне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и на верхнем выводе вторичной обмотки трансформатора Т1 ток про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т через диод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при положительной полуволне на нижнем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де— через диод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Поскольку при работе мостового устройст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течет яе через один диод, а через два, соединенные последовательно, 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тное напряжение, приходящееся на одни диод, оказывается примерно в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а меньше, чем в предыдущих устройствах. Поэтому в данном случае в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тве диодов моста можно использовать выпрямительные диоды, имеющ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тное напряжение от 75 В и выш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верку мостового устройства ведут в том же порядке, что и описанных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нее. Измерять напряжение на вторичной обмотке трансформа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i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в да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м случае не требуется, так как оно уже измерялось. Следует измерить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е пульсаций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^, выпрямленное напряжени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напряже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'^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=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выходе фильтра, после чего определить коэффициенты пульсаций, подсч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ть К и отношени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=. Затем, как описано ранее, найти оптимальны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мкости конденсаторов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С2, снять зависимость напряжени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= от сопротив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ния нагрузки и оформить график этой зависим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заключение нужно определить частоту пульсаций и результаты провер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и выпрямителя с фильтром занести в сравнительную таблиц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иоп лупериодный выпрямитель с умиоже ием напряжения (рис. 33). О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меняется в основном при малых (10 ...15 мА) токах нагрузки. Сплошным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ставим себе другой вариант. Лампа передатчика получает от источ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 питания стабилизированное постоянное напряжение. Прн этом передатчи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уже говорилось, излучает незатухающие колебания с частотой, зависящ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 емкости конденсатора и индуктивности катушки. Допустим, что в качеств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кости контура используется конденсаторный микрофон, т. е. микрофон,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ненный в виде двух пластин, одна из которых представляет собой упруг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таллическую мембрану. Если перед мембраной произносить звуки, то о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леблясь под их воздействием, будет приближаться к другой пластине 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даляться от нее, за счет чего будет изменяться емкость в такт со звук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трудно понять, что в соответствии с этим начнет изменяться в такт со з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, увеличиваясь или .уменьшаясь, частота колебаний передатчика. В дан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 незатухающие колебания тоже модулируются, но, в отличие от амп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щно-модулированных, они являются частотно-модулированными (рис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2,д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н в предыдущем случае, с помощью частотной модуляции передатч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но передавать информацию. И тот и другой вид модуляции широко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ьзуется для передачи и приема радио- и телевизионного вещания. Преиму-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рямитель работает следующим об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м. При положительной полуволн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 на нижнем выводе вторичной обмотки Т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чет ток через ди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заряжая д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конденсатор С1. При положитель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волне на верхнем выводе обмотки на 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поступает сумма напряжений втори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обмотки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конденса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через диод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дит ток и конденсатор С2 заряжается до напряжения 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и т. д. Отсю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дно, что чем больше звеньев, тем большее напряжение постоянного то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но получить от данного выпрямителя. Поскольку в нашем случае исп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уются два звена, фильтр устанавливают на выходе второго эвена (точ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—б). При четырех звеньях фильтр подключают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кам а—в. В этом случа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СЗ должен быть рассчитан на рабочее напряжение ие менее 4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звеньев может быть достаточно большим, а выходное напряжение в с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ветствующее число раз выше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Учитывая последнее обсто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ство, необходимо на выходе фильтра устанавливать конденсатор (СЗ), р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читанный на требуемое рабочее напряжение. В фильтре из-за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большого выпрямленного тока установлен ие дроссель, а резистор. Обра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е напряжение, приходящееся на каждый диод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стовом выпрямител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ставляет 1,4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Учитывай, что выпрямленное 'напряжение в выпрямителе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множением имеет в 2 раза большее значение, в нашем случае необходимо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ьзовать диоды, рассчитанные на работу с обратным напряжением ие 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0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476360" y="981000"/>
            <a:ext cx="5543280" cy="3742920"/>
            <a:chOff x="1476360" y="981000"/>
            <a:chExt cx="5543280" cy="3742920"/>
          </a:xfrm>
        </p:grpSpPr>
        <p:pic>
          <p:nvPicPr>
            <p:cNvPr id="2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476360" y="981000"/>
              <a:ext cx="5543280" cy="27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9720" y="4015440"/>
              <a:ext cx="5240880" cy="708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Рис. 33. Схема однополупериод-</a:t>
              </a:r>
              <a:br>
                <a:rPr sz="1600"/>
              </a:b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ного выпрямители с умноже-</a:t>
              </a:r>
              <a:br>
                <a:rPr sz="1600"/>
              </a:br>
              <a:r>
                <a:rPr b="0" lang="ru-RU" sz="1600" spc="-1" strike="noStrike">
                  <a:solidFill>
                    <a:srgbClr val="ffffff"/>
                  </a:solidFill>
                  <a:latin typeface="Garamond"/>
                </a:rPr>
                <a:t>нием напряже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выпрямителя выполняют в следующем порядке. Провод общ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ины осциллографа временно отсоединяют от нижнего вывода вторичной 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тки трансформатора Т1 и подключают к верхнему выводу. Измеряют вып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ямленное на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на конденсаторе С1. Затем восстанавливают сое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ние общей шины осциллографа с нижним выводом обмотки и измеряют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мленное напряжение и напряжение пульсаций иа конденсаторе С2, т. е.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е выпрямителя. Подсчитывают коэффициент пульсаций Ро. Далее изме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постоииное на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а выходе фильтра (иа конденсаторе СЗ),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е пульсаци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^, подсчитывают коэффициент пульсаций Р0, а такж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эффициент сглаживания фильтра 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 этого увеличивают одновременно в 10, 100, 200 раз емкости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G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С2 и измеряют выпримленное напряжение на конденсаторе С2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пульсац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определяют коэффициент пульсаций Ро. По по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ученным данным строят график зависимости этих показателей от емк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ов С1 я С2. Найдя оптимальные емкости, в выпрямитель устан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вают конденсаторы с этими значениями, измеряют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яют Р0 и К. Далее, увеличивая в 10, 100, 200 раз емкость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СЗ, выясняют, как ■изменяются при эт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,„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и Р„. Затем умеиы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сопротивление нагруз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2 и4 раза, измеряют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. По получ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нным определяют ток, потребляемыйрезистором нагрузки, и строят графи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висимости напряжения на выходефильтра от сопротивления и тока нагру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. В заключение определяют частотупульсаций иа конденсаторе С2. Для д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выпрямителя отнош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иеявляется чем-то характерным, так ка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но зависит от числа звеньев умножения и может принимать практически 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е значения. Результаты проверки мостового выпрямителя также заносят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авнительную таблиц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вухполупериодиый выпрямитель с удвоением напряжения (рис. 34). О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воляет получить примерно в 2 раза большее постоянное напряжение, ч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нное напряжение вторичной обмотки трансформатора Т1, при токах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узки до 100... 1150 мА и более. Выпрямитель можно рассматривать как д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нополупериодных (обмотка трансформатора — ди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—конденсатор С1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мотка трансформатора — ди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— конденсатор С2), включенных пос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вательно. Удвоенное напряжение на его выходе, т. е. на конденсаторах С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С2, получается в результате сложения раздельно выпрямленных напряжен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тное напряжение диода в рассматриваемом выпрямителе имеет то ж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чение, что для однополупериодного с умножением напряжения (см. рис. 33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. е. 1,4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. Также следует учитывать, что на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меет в 2 ра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ьшее значение, чем в двухполупериодном выпрямителе. Поэтому здесь дол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 применяться диоды с обратным напряжением не менее 200 В. Данные,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ученные в результате проверки, сводят в сравнительную -таблиц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2124000" y="1197000"/>
            <a:ext cx="5329080" cy="3455640"/>
            <a:chOff x="2124000" y="1197000"/>
            <a:chExt cx="5329080" cy="3455640"/>
          </a:xfrm>
        </p:grpSpPr>
        <p:pic>
          <p:nvPicPr>
            <p:cNvPr id="28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296800" y="1197000"/>
              <a:ext cx="485316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366360" y="3155760"/>
              <a:ext cx="385200" cy="265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fffff"/>
                  </a:solidFill>
                  <a:latin typeface="Garamond"/>
                </a:rPr>
                <a:t>VB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24000" y="3687480"/>
              <a:ext cx="5329080" cy="9651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ис. 34. Схема двухполупериодного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выпрямителя с удвоением напряже-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.2. Усилитель напряжения звуковой част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835280" y="1989000"/>
            <a:ext cx="5833800" cy="3311280"/>
            <a:chOff x="1835280" y="1989000"/>
            <a:chExt cx="5833800" cy="3311280"/>
          </a:xfrm>
        </p:grpSpPr>
        <p:pic>
          <p:nvPicPr>
            <p:cNvPr id="2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835280" y="1989000"/>
              <a:ext cx="5744520" cy="23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990080" y="4551120"/>
              <a:ext cx="56790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Рис. 35. Усилитель напряжения звуковой част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Garamond"/>
                </a:rPr>
                <a:t>а —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функциональная схема; б — амплитудная характеристика; е — частотная характеристик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Garamond"/>
                </a:rPr>
                <a:t>59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 усилителя напряжения звуковой частоты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зана на рис. 35,с: здесь ивх — напряжение сигнала иа входе каскада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входное сопротивление каскада, т. е. сопротивление между контакта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2, являющееся сопротивлением нагрузки для источника сигнала; Свх — 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сть между контактами 1, 2, являющаяся входной емкостью каскада; иВЫх —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енное напряжение сигнала иа выходе каскада;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i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Bi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 входное со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ивление и емкость последующей цепи; Е — один из полюсов источника п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янного напряжения питания каскада, второй полюс источника соединен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щей ш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ис. 35. Усилитель напряжения звуковой частоты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а —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; б — амплитудная характеристика; е — частотная характеристи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р.ис. 36,6 приведена амплитудная характеристика каскада, показыва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ая, как изменяется напряжение сигнала на выходе каскада при изменен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ровня сигнала иа входе. По виду амплитудной характеристики можно судить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о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арактере и величине нелинейных искажений в усилителе. Амплитудну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арактеристику снимают при постоянной частоте сигнала, лежащей внутри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сы пропускания каскада (например, 1 кГц), и заданном напряжении п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 рис. 35,6 видно, что при равномерном увеличении напряжения сигнал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на выходе также равномерно растет до момента (точка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)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гд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альнейшее увеличение напря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не приводит к пропорциональном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сту напря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H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В точке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нейная зависимость нарушается и х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ктеристика загибается, что свидетельствует о возникновении искажений. 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бежание этою необходимо, чтобы при работе усилителя напряжение в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сигнала не превышало определенного предельного значения, т. е. усил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ль должен работать в пределах линейного участка характеристи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 амплитудной характеристике можно определить коэффициент усил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я, показывающий, во сколько раз напряжение сигнала на выходе больш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м на входе, т. е. К=иВых/ивх. Напряжения берут в одинаковых единиц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вольтах, милливольтах, дай просто делениях шкалы). Поскольку амплитудну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арактеристику снимают при определенной частоте сигнала, то и коэффициен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ения каскада определяется именно для этой частоты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висимость К от частоты при постоянном значении напряжения сигн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ходе и питающего напряжения называется амплитудно-частотной харак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тикой усилительного каскада (АЧХ), для упрощения называемой обыч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росто частотной характеристикой. Типичная частотная характеристика 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 показана на рис. 35,е. Из нее видно, что коэффициент усиления, име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й наибольшее значение на средних частотах, снижается при уменьшен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ы сигнала до знач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увеличении до знач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олосой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скания любого усилителя звуковой частоты считается полоса частот, за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нная между точками (на горизонтальной оси)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при которых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 снижается примерно на 30%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ный усилитель. При использовании транзисторов в усилителя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можны различные варианты их включения. На рис. 36,с 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ключен по схеме, называемой схемой с общим коллектором (&lt;Ж). Нагруз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являетс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цепи эмиттера. Такой усилитель характеризуется 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ительно высоким входным (более Ә0 К) и низким (300... 3000 Ом) вых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м сопротивлениями. Однако коэффициент усиления его меньше единицы, т. 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ое напряжение каскада оказывается меньше входного, происходит н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ое ослабление напряжения сигнала. Задача этого каскада одна — обе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чить высокое входное и низкое выходное сопротивления усилител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ключен по схеме с общим эмиттером (ОЭ), нагруз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являетс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в цепи коллектора. При таком включении каска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еет низкое входное сопротивление (100... 300 Ом), однако может обеспеч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0... 100-кратное усиление напряжения сигнала. Чтобы собрать усилитель с 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ительно высоким входным сопротивлением и большим усилением, целесо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но в первом каскаде использовать транзистор, включенный по схем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K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 втором — по схеме ОЭ, что и сделано в усилителе на рис. 36,с. -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через разделительный конденсатор С1 поступает на базу транзистор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Через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сюда же поступает постоянное напряжение, необходи-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50920" y="404640"/>
            <a:ext cx="4968720" cy="3744720"/>
            <a:chOff x="2050920" y="404640"/>
            <a:chExt cx="4968720" cy="3744720"/>
          </a:xfrm>
        </p:grpSpPr>
        <p:pic>
          <p:nvPicPr>
            <p:cNvPr id="2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089800" y="404640"/>
              <a:ext cx="4929840" cy="36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050920" y="3991680"/>
              <a:ext cx="469440" cy="157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ffffff"/>
                  </a:solidFill>
                  <a:latin typeface="Garamond"/>
                </a:rPr>
                <a:t>2^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00" name=""/>
          <p:cNvGraphicFramePr/>
          <p:nvPr/>
        </p:nvGraphicFramePr>
        <p:xfrm>
          <a:off x="1619280" y="4365720"/>
          <a:ext cx="6048360" cy="180180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. 36. Усилитель напряжения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уковой частот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а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принципиальная схема усилите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я напряжения на транзисторах;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 — определение входного сопро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вления; </a:t>
                      </a: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Franklin Gothic Medium"/>
                          <a:ea typeface="Times New Roman"/>
                        </a:rPr>
                        <a:t>в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усилителе напряже-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я звуковой частоты на ламп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3414600" y="38080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е для работы транзистора на линейном участке характеристики. С резисто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грузк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напряжение сигнала через разделительный конденсатор С2 под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тся на базу транзис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 На его базу через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 поступает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е смещения. Усиленное напряжение сигнала с коллектора транзистор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через разделительный конденсатор СЗ поступает на последующий каскад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 является эквивалентом входного сопротивления следующего ка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да. Без этого резистора результаты измерения коэффициента усиления был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ы завышен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усилителе на рис.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36.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cz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можно использовать любые транзисторы, пред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значенные для усиления напряжения звуковой частоты. Если применя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зисторы п-р-п типа, то иужио изменить полярность источника питания —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ожительный полюс соединяют с коллекторными цепями, а отрицательный —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 эмиттерными. Усилитель собирают на плате из картона. Напряжение пит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я 10 В подают на усилитель от осциллограф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ёство амплитудной модуляции состоит в том, что амплитудио-модуляров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ые колебания преобразовать в звук в приемнике значительно проще. Однак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ройства с амплитудной модуляцией более чувствительны к внешним помехам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частотной модуляции приемник усложняется, но зато устройства с эти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идом модуляции обеспечивают более высококачественное воспроизвед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вука из-за меньшей восприимчивости к внешним помеха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лучаемый антенной передатчика амплитудво- или частотно-модулиров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й сигнал распространяется в пространстве и достигает антенны радиопри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устройства. После усиления модулированный сигнал поступает на так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ываемый детектор (Д). Назначение детектора — выделить из модулиров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сигнала те самые электрические колебания звуковой частоты, которы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здавались микрофоном (рис. 2,е). Процесс получения с помощью детектор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ов звуковой частоты из модулированного сигнала называется детекти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нием. Для детектирования амплитудяо-модулированного сигнала использу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мплитудами детектор. Детектирование частотно-модулированного сигнала ос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ествляется частотным детекторо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радиоприемниках, телевизорах и в других приемных устройствах мод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рованные колебания высокой частоты, поступающие из антенны, преобраз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тся в колебания промежуточной частоты, всегда постоянной при приеме сиг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ов любой частоты рабочего диапазона. Преобразование частоты в прием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ройствах дает возможность существенно улучшить такие их показатели, ка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увствительность, [избирательность, устойчивость работы. Преобразование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ы происходит в специальном каскаде приемника — преобразователе. П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ние частоты осуществляется следующим образом. На вход преобраз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теля П (рис. 3) поступает принятый антенной сигнал с частотой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Одно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менно от вспомогательного генератора .Г, называемого гетеродином, в п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 подается сигнал с частотой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 Частота гетеродин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мож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еть как меньшее, так и большее значение, чем частота сигна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Част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тличаются друг от друга н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n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л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 Сигналы двух часто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смешиваются в преобразователе. Включенный на выходе преобразовател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ту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настроен на промежуточную частоту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n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Таким образом, на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ур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выделяется сигнал промежуточной часто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"/>
          <p:cNvSpPr/>
          <p:nvPr/>
        </p:nvSpPr>
        <p:spPr>
          <a:xfrm>
            <a:off x="-441000" y="1324080"/>
            <a:ext cx="1002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роверки усилителя используют осциллограф, подготовленный для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ения напряжений переменного тока, и ГЗЧ. Напряжение сигнала с вых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подают на вход усилителя. Регулятор выходного напряжения ГЗЧ пе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дят в положение, при котором напряжение на выходе генератора отсутст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. Вход осциллографа соединяют с выводом эмиттера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П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осциллографа устанавливают в положение «Усилитель», 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улятор «Усиление» — в положение наибольшей чувствительности. Усилител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ключают к источнику питания. Генератор переключают иа частоту 1 кГц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регулятором «Выход» устанавливают такое напряжение на входе 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, при котором станут заметными искажения формы напряжения на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Уменьшив входное напряжение до появления неискаженной синусо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ы, принимают полученное входное напряжение йа наибольшее знач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неискаженной формы сигнала добиться не удастся,, следует подобрать 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номинал которого меняют в пределах ±50%. Оставляют резистор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им сопротивлением, при котором искажения уменьшились.   Перед заме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ную характеристику усилителя снимают следующим образом. Вх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 соединяют с входом усилителя (точка 1). Регулятором «Выход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устанавливают напряжение сигнала 0,1 В (частота 1 кГц). После эт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 осциллографа подключают к выходу усилителя (точка 3)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ое напряжение. Затем кабель вновь подключают ко входу усилител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сигнала устанавливают 0,2 В, определяют значение иПых, и т. 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рения прекращают, когда увеличение напряжения входного сигнала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водит к увеличению напряжения сигнала на выходе. По получеяным д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м строят график амплитудной характеристики наподобие показанного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3 5,6. Из него определяют коэффициент усиления усилителя при работ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линейной части характеристики. Его значения должны быть менее 20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снятия частотной характеристики обычно используют ГЗЧ с плав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стройкой от 20... 30 Гц до 20... 30 кГц. Поддерживая напряжение сигн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одном уровне, изменяют частоту генератора, начиная с 20 Гц, через оп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ные интервалы и каждый раз измеряют напряжение на выходе усили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. Заканчивают снятие частотной характеристики, когда выходно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спадает более чем на 30 ...50% по сравнению с напряжением на сре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ах. Для получения частотной характеристики описанным способом не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имо провести большое число измерений. Между тем наибольший интере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ставляют участки частотной характеристики в области низких 20... 120 Гц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высоких 5... 15 кГц частот, поскольку в полосе 100 Гц... 5 кГц частот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арактеристика обычно равномер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а следует отключать усилитель от источника питания, иначе мож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вредить тран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тем определяют ток в цепи коллектор — эмиттер, который не должен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вышать 60... 70% от допустимого значения, указанного в паспорте транзи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ра. Для этого измеряют постоянное напряжение на резистор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и получ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е значение в вольтах делят на сопротивление резистора в килоомах. То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учится в миллиамперах, и его значение не должно превышать 5... 7 мА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сли ток значительно больше, для его уменьшения следует снова подобра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 Далее осциллограф подключают к точке соединения резис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 конденсатора СЗ я проверяют форму сигнала на выходе усилителя. Входно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пряжение должно оставаться неизменным. Регулятор «Усиление» осциллог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фа должен быть в положении, при котором вертикальный размер осциллог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ммы составит 0,5... 0,7 диаметра ЭЛТ. Если наблюдаются заметные искаж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я формы сигнала, то подбирают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 как и в первом каскад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.нашем случае при наличии ГЗЧ с двумя фиксированными частота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1 и 10 кГц) и осциллографа с источниками сигнала с частотами 50 и 100 Гц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ая характеристика снимается упрощенным способом. Используется вс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гательный переменный резистор сопротивлением 20... 200 кОм. Один из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айних выводов соединяют с общей шиной, второй крайний вывод — с гне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м Х8 осциллографа. Гнездо Х7 соединяют с общей шиной. Движок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подключают к точке 1 усилителя. Таким образом на вход усилителя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упает сигнал с частотой 50 Гц. С помощью осциллографа и регулиров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помогательного резистора устанавливают на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2 В. Затем нх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 соединяют с выходом усилителя (точка 3) и измеряют его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ное напряжение. Полученное значение записывают. Затем вывод пер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резистора отключают от гнезда Х8 и соединяют с гнездом Х6. Теперь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и, следовательно, иа вход усилителя поступает переменное напря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ой 100 Гц. Установив его значение, равное 0,2 В, измеряют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ние на выходе усилителя. Полученное значение также записывают. После эт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переменный резистор отключают от усилителя и на его вход подают от ГЗЧ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напряжение 0,2 В сначала с частотой 1, а затем 10 кГц, измеряя и записыв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оих случаях выходное напряжение усилителя. Таким образом на част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характеристике усилителя отмечают четыре точки на горизонтальной оси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ами 50, 100 Гц, 1 и 10 кГц н точки на вертикальной оси с соответ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ующими значениями выходного напряжени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удем считать, что частотная характеристика линейна в пределах 150 Гц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.. 5 кГц, и отметим эти два значения иа горизонтальной оси. Уже говорилос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 искажения частотной характеристики оцениваются коэффициентом част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х искажений, показывающим, на сколько отличается коэффициент уси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граничных частотах от коэффициента усиления иа средней частоте полос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пропускания. Для нашего случая, когда входное напряжение постоянно на все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ах, можно для построения частотной характеристики, подобной харак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тике иа рис. 35,е, отмечать не Ко и К, а выходные напряжения иа сред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и крайних частотах, соответственно иВыю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ma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'Несмотря на огранич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точек, соединив их, как показано на рис. 36,е штриховой линией,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получим приближенную частотную характеристику усилител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ная и частотная характеристики транзисторного усилителя не 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значно зависят от номиналов использованных деталей. Для оценки эт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лияния на амплитудную характеристику следует увеличить на 100% со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вления 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и снять амплитудную характеристику усилите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этих данных. Изменение емкости конденсаторов в большей степени вли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 на частотную характеристику. Для проверки этого увеличивают в 10 и 100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 поочередно емкости конденсаторов С1 — СЗ и в каждом случае сним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ую характеристику указанным ранее способом. Построив по результ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м проверок амплитудную и частотную характеристики, легко установить,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няются показатели усилителя звуковой частоты от номиналов деталей.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ности, увеличение емкости конденсаторов приводит к подъему частот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арактеристики в области низких частот, а |уменыиение сопротивления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на 50% приведет к ее подъему в высокочастотной части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нее .говорилось о входном сопротивлении транзисторных усилителей зву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вой частоты. Значение его во многих случаях необходимо знать. С дост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ной для радиолюбителя точностью оио определяется следующим образ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рис. 36,6). Собирают цепь, изображенную иа рис. 36,6. Частоту ГЗЧ устанав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ивают 1 кГц. Переключатель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 осциллографа ставят в положение «Усил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ль». С точкой А соединяют вход усилителя при включенном питающем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и. В этом случае входное сопротивление усилителя сказывается вклю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ченным последовательно с резисторам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 При соответствующей регулировк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ЗЧ .и осциллографа на экране добиваются устойчивой осциллограммы сиг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а, измеряют и запоминают его напряжение. Затем вход усилителя отключаю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т точки А, вместо него подключают верхний по схеме вывод резис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н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гулируя его, добиваются такого же напряжения в точке А, какое было пр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дключенном входе усилителя. Измерив подобранное сопротивление резисто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0920" y="7315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мы получим входное сопротивление усилителя или, что то же, каскада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Входное сопротивление усилителя на транзисторах в опре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ной степени зависит от частоты сигнала и уменьшается с ее повышение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овый усилитель. На рис. 36,в приведена принципиальная схема к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да усиления напряжения звуковой частоты (без цепей ООС) на триоде ко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инированной лампы триод — пентода 6Ф5П (используется в телевизоре УЛ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7/59/61-Н). На вход каскада сигнал поступает через разделительный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 С1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ключен в качестве сопротивления утечки сетки. В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дной цепи лампы для получения напряжения смещения включен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С2 — блокирующий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спользуется в качестве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нагрузки триода, с которого усиленное напряжение сигнала звуковой ч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ты поступает через разделительный конденсатор СЗ на вход последу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а. Входное сопротивление каскада велико и достигает 1 МОм. Так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чение получается без применения каких-либо специальных мер, что явля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преимуществом лампового усилителя перед транзисторным. По другим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ателям — коэффициент усиления, полоса усиливаемых частот, коэффициен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ых искажений — схемы на рис. 36, с и б примерно равноцен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мплитудная и частотная характеристики каскада снимаются так же, ка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 транзисторного усилителя. Форма амплитудной характеристики и протяж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сть ее линейной части зависят от сопротивления резисторов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 ча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тная характеристика — от сопротивления резисто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 и емкости конд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аторов С1—СЗ. При проверке каскада и снятии его характеристик емко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гут отклоняться от номиналов от —50 до +200% и более. Номиналы р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исторов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 можно изменять на ±70%. Изменение номиналов детален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казанных широких пределах, осуществляемое для проверки работы усилител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различных режимах, не представляет опасности для ламп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.3. Усилитель мощности звуковой част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начение усилителя мощности звуковой частоты—преобразовыва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звуковой частоты в слышимые звуковые колебания с помощ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намической головки, к которой должно подводиться напряжение звуков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ы достаточной мощности. Отсюда и название этих усилителей. Функци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ьная схема усилителя мощности дана на рис 37. Здес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— напряж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а на входе усилителя, РВЫх — мощность звуковой частоты, выделяема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нагрузке, иВЫх — напряжение звуковой частоты на сопротивлении нагру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и, :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P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— сопротивление звуковой катушки динамической головки, являющее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ем нагрузки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— входное сопротивление усилителя. Е —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питания.Основные характеристики усилителя мощности подобны характеристика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ителя напряжения звуковой частоты. Амплитудная характеристика устана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вает связь между выходной мощностью и напряжением сигнала на входе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е снимают иа средней частоте при заданном напряжении источника питания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ная характеристика показывает, как изменяется выходная мощность уси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2971800" cy="2914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981080" y="4581000"/>
            <a:ext cx="53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37. Функциональная схема усилител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мощности звуковой част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ходной контур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lO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 контур гетеродин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 яастриваются одновре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енно с помощью сдвоенного блока переменных конденсаторо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н С2, но1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бственные частоты этих контуров различаются на частоту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n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Поэтому пр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юбой перестройке контуро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н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существляемой для настройки на часто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диостанций, разность между частотам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нтуров сохраняется неизменной; промежу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очная частота, выделяемая контуром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стоянна и не зависит от настройки конту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о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Если входной сигнал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м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улирован, то сигнал промежуточной част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ы также оказывается модулированным и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жет быть продетектирован детектором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емника. Конкретные схемы преобразователей частоты отличаются разнообразием. 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х с одинаковым успехом применяются ка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анзисторы, так н радиоламп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еля при изменении частоты и постоянном уровне входного сигнала. Прн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роении частотной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'Характеристики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вертикальной оси отмечают значения к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ффициентов неравномерности М=РСр/Р, где РСр — значение выходной мощ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сти на средней частоте полосы пропускания (1 кГц), Р — значение выхо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мощности на граничных частотах полосы пропускания. Так как знач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ходной мощности определяется путем измерения напряжения звуковой ча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ты, действующего иа сопротивлении звуковой катушки динамической .голо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и, то в этом случае, естественно, не могут быть учтены особенности примен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динамичбокой головки. Более верной является частотная характеристик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нятая по звуковому давлению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намическую головку устанавливают в помещении со стенами из звук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глощающего материала, иа усилитель подают напряжение сигнала, частот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ого изменяется в установленных пределах, и с помощью специально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крофона определяют звуковое давление, создаваемое динамической головк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пространстве в заданном диапазоне частот. Поскольку в любительских усл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иях получить частотную характеристику по звуковому давлению практическ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возможно, ее снимают по напряжению иа звуковой катушке и мощность по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читывают ПО формуле Рвых = и2вых/Кг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зисторный усилитель мощности звуковой частоты. В транзисторном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е звуковой частоты усилитель напряжения и усилитель мощности, ка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авило, связаны гальванически, т. е. образуют последовательную цепь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тоянного тока. Поэтому проверку в отдельности усилителя мощности, о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люченного от общей схемы усилителя, часто ие проводят. Одна из многоч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ных принципиальных схем усилителя звуковой частоты с мощным оконе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ым каскадом приведена на рис. 38,а. Его выходная мощность составляе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коло 0,1 В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используется в каскаде предварительного усиления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я звуковой частоты. Конденсаторы С1 и С4 — разделительные. С помощь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 обеспечивается требуемый режим работы транзистора. Ч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з .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с выхода усилителя подается на вход каскада сигнал от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ательной обратной связи, улучшающей работу усилителя. В коллекторной ц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и тран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включены резисторы нагруз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, с которых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619280" y="907920"/>
            <a:ext cx="6049800" cy="4105080"/>
            <a:chOff x="1619280" y="907920"/>
            <a:chExt cx="6049800" cy="4105080"/>
          </a:xfrm>
        </p:grpSpPr>
        <p:pic>
          <p:nvPicPr>
            <p:cNvPr id="31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19280" y="907920"/>
              <a:ext cx="6049800" cy="31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692000" y="4548960"/>
              <a:ext cx="34801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Рис. 38. Усилитель мощности звуковой частоты: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о — на транзисторах: </a:t>
              </a:r>
              <a:r>
                <a:rPr b="1" i="1" lang="en-US" sz="14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— на ламп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енное напряжение сигнала поступает иа базы тран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раб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ющих в оконечном каскаде усиления мощности. Оконечные каскады траизис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ных усилителей мощности, как правило, собирают по двухтактной схеме,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ой используются два транзистора, работающих поочередно. Один из 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вает положительные, а другой — отрицательные полуволны сигнал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вухтактные схемы обеспечивают лучшее качество воспроизведения звука, б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е экономичны. Значительно реже, преимущественно в маломощных каскад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няют однотактный оконечный каскад, в котором используется одни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, потребляющий в сравнении с двухтактным больший ток от источ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тания для получения одной и той же выходной мощности. С выхода 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 (точка соединения эмиттеров) колебания евуковой частоты через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 С4 поступают на звуковую катушку динамической головки ВА1. В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тве источника питания усилителя можно использовать батарею «Крона» 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ве батареи от карманного фонаря, включенные последовательно. Макет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я собирают по описанному ранее метод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яют усилитель с помощью осциллографа и ГЗЧ. Вместо динамиче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й головки желательно установить эквивалентный резистор с сопротивлением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вным сопротивлению звуковой катушки (10 Ом). В качестве такого резисто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 можно использовать две включенные параллельно лампочки освеще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калы лампового приемника (6,3 ВХ0.28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).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B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крайнем случае динамическу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оловку можно оставить включенной. Единственное неудобство в этом случа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вязано с тем, что налаживание усилителя будет сопровождаться мешающи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вуком. На вход усилителя подают напряжение с частотой 1 кГц от ГЗЧ, ре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лятор «Выход» которого устанавливают в положение наименьшего сигнал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 осциллографа соединяют с эквивалентом диамической головки (или е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вуковой катушкой).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должен находиться в .положени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Усилитель». Равномерно, с интервалом 0,1 ... 0,2 В увеличивая напряжение о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ЗЧ, измеряют выходное напряжение усилителя, для каждого случая подсч№-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ывают выходную мощность РСр и строят по полученным данным амплиту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ую характеристику усилителя. Если форма выходного сигнала на экране 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иллографа значительно отличается от синусоидальной, то перед снятием амп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удной характеристики необходимо добиться ее улучшения подбором рез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ов '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н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 амплитудной характеристике определяют наибольшее 'Неискаженное иа-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на нагрузке и подсчитывают наибольшую выходную мощность у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еля. Одновременно определяют напряжение сигнала на входе, необходим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получения наибольшей выходной мощности. Частотную характеристик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я мощности снимают так же, как у усилителя напряжения звуков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ы. Чтобы оценить влияние емкости конденсаторов С1, СЗ и С4, хара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ристику следует оиять при трех значениях емкости: в 10 раз меньше ном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ьной, при номинальной и в 10 раз больше номинально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 мощности на лампе. Для получения мощности порядка единиц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атт, достаточной для воспроизведения звука с необходимым запасом гро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сти в комнате площадью 20... 30 м2, используют однотактиый оконечны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скад на пентоде. Двухтактные ламповые выходные каскады в бытовой р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оэлектронной аппаратуре используют сравнительно редко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отличие от транзисторного усилителя, усилитель мощности на лампе м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т быть полностью проверен в «изолированном» виде, не будучи связан с'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варительными каскадами усиления напряжения звуковой частоты. На ри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8,6 приведена принципиальная схема выходного каскада иа тетрод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ко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инированиой лампы 6Ф5П, используемой в телевизоре УЛТ-47/59/61-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I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 Уси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ный предварительным усилителем (см. § 3,2) сигнал поступает на упр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ющую сетку лампы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ключен в качестве сопротивления утеч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ки. Постоянное напряжение смещения, необходимое для работы лампы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елах линейной части ее характеристики, получается за счет падения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я н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Конденсатор СЧ является блокирующим. Для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учения требуемого напряжения на экранной сетке включен делитель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, тостоящий нз 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Конденсатор С2 — блокирующ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Назначение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СЗ — подавить нежелательные колебания, которые мог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никнуть в обмотках трансформатора Т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тличие от усилителя мощности иа транзисторах, имеющего низкое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ное сопротивление (единицы ом) н допускающего непосредственное п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лючение к выходу иизкоомной нагрузки (динамической головки), лампов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тель мощности имеет выходное сопротивление, исчисляющееся килоомам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этому динамическая головка (4... 8 Ом) не может быть «напрямую» в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на в цепь анода. Это будет равносильно короткому замыканию в цепи.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м случае используется трансформаторное подключение нагрузки (динамиче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й головки). Если в анодную цепь включить первичную обмотку трансформ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Т1, а к вторичной обмотке присоединить динамическую головку, то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узкой пентода иа звуковой частоте будет сопротивл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H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жду вывод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 1 м 2 трансформатора. Это сопротивление зависит как от сопротив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уковой катуш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так и от соотношения между числами витков первич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вторичной обмоток трансформатора. Оно называется приведенным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м. Чтобы получить необходимое знач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h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известном сопротив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и динамической головки, рассчитывают " трансформатор с соответствующи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отношением витков обмоток. Обычно в усилителях используют стандарт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ые трансформаторы, обеспечивающие при стандартных головках требу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е сопротивление нагрузки лампы и максимальную неискаженную мощность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уковой катушк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помощью осциллографа и ГЗЧ можно проверить усилитель непосред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нно в аппарате, где он испрльзуется (например, в телевизоре). Начин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со снятия амплитудной характеристики. В качестве источника сиг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 приходится использовать напряжение 6,3 В, получаемое от осциллограф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уровень сигнала от ГЗЧ недостаточен). Для плавной регулировки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__на входе усилителя постоянны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заменяют переменным. Осцилло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ф .(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 положении «Усилитель») присоединяют к верхне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 схеме выводу вторичной обмотки трансформатора Т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ная характеристика н выходная мощность измеряются так ж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у транзисторного усилителя мощности. Однако в связи с тем, что часто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ного сигнала равна всего лишь 50 Гц, истинное значение выходной мощ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и каскада окажется заниженным на 30... 50%. Форму амплитудной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стики целесообразно проверить, изменив иа ±50% сопротивление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а зат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Частотную характеристику каскада снимают так же,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у транзисторного усилителя мощности, с использованием в качестве источ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игнала ГЗЧ и осциллографа. Из-за малого уровня сигнала ГЗЧ выход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щность каскада будет небольшой, однако это не скажется на фор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 его частотной характеристики. Ее форма остается неизменной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юбых значениях мощности, ие превышающих номинальную. Форма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стики в значительной    степени зависит от емкости и сопротивления цепн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СЗ и в меньшей степени — от емкости блокирующих конденсаторов. Ч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 оценить влияние номиналов указанных деталей на форму частотной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стики, целесообразно снять ее при изменении номиналов деталей на ±50%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4. Усилитель видеосигн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 видеосигнала (или видеоусилитель) используется в те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изионных приемниках и, в отличие от усилителя напряжения звуковой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ы, должен усиливать сигналы в полосе частот примерно до 7 МГц. Усил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ые видеосигналы поступают на кинескоп и обеспечивают получение на экра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зображения. Иными словами, эти сигналы несут информацию об изображени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черио-белых телевизорах видеоусилитель состоит из одного-двух каскадов,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ветных телевизорах их число может быть больш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ункциональная схема видеоусилителя показана на рис. 39,а. Здес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—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ное напряжение видеосигнала;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B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* — входное сопротивление усилителя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bi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емкость между контактами 1, 2, являющаяся входной емкостью кас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; ивых — усиленное напряжение сигнала ка выходе;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bx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С'в* — вход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противление и входная емкость последующей цеп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 видеоусилителю предъявляются более жесткие требования, чем к УЗЧ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мимо широкой полосы частот они должны вносить минимальные фазовы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кажения. Свойства видеоусилителя можва. оценивать по его частотной хара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ристике и по форме усиленных нм импульсов, воспроизводимых иа экра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а. Если иа вход усилителя подать сигналы П-^разиой формы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экране ЭЛТ изобразятся импульсы, форма которых будет в той или и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епени отличаться от П-образной из-за искажений, возникших в усилителе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единительных цепях и пр. Если от генератора импульсов (ГИ) подать П-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иый сигнал иа вход усилителя (рис. 39,6), то выходной сигнал (штрихова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ния) будет отличаться по форме от входного. Так, у импульса иа выход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ет увеличиться длительность фронта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ф,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. е. время, в течение которо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мпульсное напряжение на выходе усилителя достигнет 90% наибольшего з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ния. Вместо относительно плоской вершины входного импульса на выходн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мпульсе может появиться выброс. Может возрасти длительность спада тс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. е. промежуток времени, в течение которого после прекращения действ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ного импульса напряжение на выходе уменьшится до 10% от максима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го. Чтобы оценить степень искажения импульса, устанавливают допуски и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 или иные искажения, в пределах которых форма выходного сигнала счит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тся приемлемой. Следует иметь в виду, что искажения формы импульса м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т произойти за счет подключения к выходу усилителя измерительных прибо-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44228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в, в частности осциллографа с большой входной емкостью, длинных соед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тельных проводов и п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верка или налаживание усилителя с помощью генератора П-образи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 импульсов не требует много времени и отличается наглядностью. Для провер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 видеоусилителя в телевизоре следует использовать П-образиый импульс с час-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ой повторения не менее 500 кГц. Амплитудная характеристика усилителя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щ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лжна -быть линейной в пределах, ограниченных наименьшим и наибольшим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W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начениями входного сигнала. Из амплитудной характеристики усилителя и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ходят коэффициент усиления на средней частоте сигнала, за которую приним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$ ют ее значение в пределах 1... 2 МГц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ный видеоусилитель. Простейшая  принципиальная  схема тр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Ә зисторного усилителя приведена на рис. 40,а. Ои предназначен для работы в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честве первого каскада двухкаскадного усилителя в транзисторном черно-б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I   лом телевизор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 усилителя подается видеосигнал с выхода детектора. Конденс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 С1 является разделительным. С помощью рези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а баз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оступает постоянное напряжение, необходимое для его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ты в линейной части амплитудной характеристики.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установле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повышения входного сопротивления каскада. Нагрузкой транзистора я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яются соединенные последовательно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 и дроссел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Прн так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грузке частотная характеристика каскада расширяется до нескольких мег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I   герц.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 и конденсатор -С2 включены для подъема частотной хара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теристики в области низких частот. Конденсатор СЗ — разделительный. Ко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денсатор С'вх -и резистор 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являются эквивалентом входной цепи после-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ующего каскада. Поскольку усилитель налаживается, с помощью осциллог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Ә фа, присоединяемого к выходу, то эквивалентом    последующего каскада дл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ителя будет осциллограф.Рис. 40. Принципиальная схема видеоусилителя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 —на транзисторе; б —иа ламп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место транзистора типа П416 в видеоусилителе можно использовать тра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исторы типа КТ312А, КТ315В, КТ315Г, КТ601А и другие высокочастотны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ы, предназначенные для использования в телевизорах. Катушк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мотана на резисторе МЛТ-0,5 сопротивлением не менее 50 кОм и состоит из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1332000" y="1197000"/>
            <a:ext cx="6696000" cy="3600000"/>
            <a:chOff x="1332000" y="1197000"/>
            <a:chExt cx="6696000" cy="3600000"/>
          </a:xfrm>
        </p:grpSpPr>
        <p:pic>
          <p:nvPicPr>
            <p:cNvPr id="33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332000" y="1197000"/>
              <a:ext cx="669600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666080" y="4357800"/>
              <a:ext cx="37771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7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ис. 40. Принципиальная схема видеоусилителя:</a:t>
              </a:r>
              <a:br>
                <a:rPr sz="1600"/>
              </a:b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а —на транзисторе; б —иа ламп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248360" cy="3954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86080" y="5083920"/>
            <a:ext cx="42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3. Преобразование част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80 витков провода ПЭВ-0,1 ... 0,2, намотанных внавал между выступ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ями резистора. Макет усилителя, собранного описанным ранее способом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яют с помощью осциллографа и ГИ. Несмотря на то, что П-образи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пульсы генератора имеют значительно более низкую частоту, чем необхо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 для полноценной проверки усилителя, тем ие менее, используя ГИ, 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воить порядок налаживания видеоусилителя с помощью П-образных импу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питания (10 В) подается на усилитель от источника пит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.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осциллографа устанавливают в поло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Пластины». Общие шины усилителя, осциллографа и ГИ соединяют вместе.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с гнезда ХЗ ГИ подают иа вход усилителя (точка 1). Вход ос-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ллографа через конденсатор 20 пФ подключают сначала ко входу усилител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тем — к выходу (точка 3), чтобы убедиться В том, что П-образный Сигна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вается. Затем подбирают уровень входного сигнала таким, чтобы вых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сигнал не был искажен из-за перегрузки усилителя. После этого срав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осциллограммы входного н выходного импульсов. Используя масштабн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ку, определяют коэффициент усиления каскада. Амплитуда выходного и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льса должна быть больше входного в 10... 12 раз. Сопоставляя форму вх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и выходного импульсов, определяют характер искажения выходного и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льса (см. рис. 13). Далее проверяют форму выходного импульса прн изме-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нни номиналов радиодеталей. После каждого изменения схему восстанавли-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в первоначальном виде, а перед изменением усилитель отключают от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ника питания. Сначала проверяют форму импульса иа выходе, замкну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осс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Следующее изменение — замыка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Затем у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ают на 50% сопротивл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далее его же увеличивают 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%. После этого увеличивают .емкость иа выходе усилителя: к точкам 3,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очередно подключают конденсаторы емкостью 50, 200 и 1000 пФ. Такая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ка позволит радиолюбителю определить причины, приводящие к тем или 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ым искажениям выходного сигнала, и устранить и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овый видеоусилитель. На рис. 40,6 приведена принципиальная схе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нокаскадного видеоусилителя телевизора УЛТ-47-Ш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 собран иа пентод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Входной видеосигнал непосредственно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а детектора поступает на управляющую сетку лампы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осс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одиовремеиио служат элементами нагрузки детектора, выделяюще- 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напряжение видеосигнала, н цепью утечки сетки лампы. За счет дроссел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частотная характеристика детектора расширена в сторону высоких часто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'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ключен для получения напряжения смещения. В анодной цеп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ы установлены корректирующие элемент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С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и резист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груз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обеспечивающие необходимую форму частотной характеристики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осе частот до 7 МГц. Усиленное напряжение видеосигнала поступает иа к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скоп с точки соединения дросселе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С помощью переменного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можно изменять постоянное напряжение на экранной сетке пент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получения плавной регулировки усиления каскада и соответств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растности изображения иа экране телевизора. Конденсатор СЗ — блок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ющ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олноценной проверки видеоусилителя в телевизоре, подстройки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но-частотной характеристики необходима достаточно сложная фабри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я аппаратура. Однако, чтобы убедиться в более или менее нормальной 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те каскада, можно проверить его упрощенным способом, используя тольк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И. П-образный сигнал от ГИ подается на имеющуюся на плате усилите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рольную точку КТ1. В этом случае на экране телевизора должно появитьс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—'10 контрастных горизонтальных полос, свидетельствующих о работос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бности каскада. При отсутствии полос необходимо с помощью осциллог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а измерить постоянные напряжения иа катоде лампы, аноде н экранной с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е. Причиной отсутствия напряжения на аноде может быть обрыв в дроссел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л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Напряжение на экранной сетке может отсутствовать- из-за, пробоя»-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а СЗ или порчи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Если на электрод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ы имеются требуемые напряжения, то, соединив вход осциллографа с а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м, определяют, имеется ли иа ием усиленное импульсное напряжение. Ес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нет — ламп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еисправна. Наличие на аноде П-образного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отсутствии горизонтальных полос на экране телевизора свидетельствует об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ыве в щели, соединяющей дроссел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с кинескоп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омним, что при работе с включенным телевизором необходимо соб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ть требования техники безопасности: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5. Резонансные усилите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онансные усилители обычно используют для усиления, высоко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ных колебаний во входных каскадах и каскадах усиления промежуточ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ы радиоприемников, телевизоров, тюнеров и т. 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 однокаскадиого резонансного усилителя приведе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рис. 41,а. Здес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— входное напряжение сигнала высокой частоты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вх — входное сопротивление и емкость каскада; иВЫх — уоилеиное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сигнала высокой частоты;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'вх — входное сопротивление и 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сть последующей дели (каска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онансный усилитель отличается формой амплитудно-частотной характ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истики, имеющей резко выраженный подъем на частот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называемой рез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нсной частотой. Из характеристики определяют полосу пропускания (рнс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1,6), т. е. разност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частот сигнала, на которых коэффициент усил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нижается на 30%. Частотную характеристику резонансного усилителя форм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уют с помощью колебательных контуров от одиночных, содержащих катушк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ндуктивности и конденсатор, до весьма сложных колебательных систем, с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ящих из нескольких катушек н конденсаторов. В многокаскадных резонан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х усилителях общая частотная характеристика формируется перемножение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характеристик отдельных каскадов. Если контуры в каждом каскаде настрое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одну резонансную частоту, то итоговая частотная характеристика будет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к иринято говорить, одногорбой, с одним максимумом. Если контуры в к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дах настроены на разные частоты, то результирующая частотная характ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истика будет многогорбой, с несколькими максимумами. В последнем случа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ногокаскадный усилитель имеет значительно более широкую полосу пропус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302360" cy="2343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979640" y="3933720"/>
            <a:ext cx="51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41. Резонансны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усил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— функциональная схема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 — амплитудно-частотна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арактеристика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ния. В зависимости от ее ширины резонансные усилители имеют различ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значение. Здесь рассмотрены только одноконтурные резонансные усилител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зисторный резонансный усилитель (рис.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42,а}-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вход усилителя си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 поступает через разделительный конденсатор €1. Резистор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служа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обеспечения необходимого режима работй тран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. В коллектор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ую цепь транзистора включен конту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IC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, с которого через разделительны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 СЗ усиленное напряжение поступает на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Bx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и кояде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сатор С'вх, являющиеся эквивалентом входного сопротивления и емкости с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ующего каскад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усилителе можно использовать любой маломощный высокочастотны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зистор р-л-р структуры. Катушк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содержит 80 витков провода ПЭВ-0,1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мотанных иа каркасе диаметром 8 мм. Ширина иамотки 10 мм. Концы 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ушки закрепляют липкой лентой. Собранный макет усилителя проверяют с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щью осциллографа и ГВЧ. Для питания усилителя используют источни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я 10 В осциллограф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гнал от ГВЧ подают иа вход усилителя (точки 1, 2), с его выход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(точки 3, 4) соединяют вход осциллографа.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осциллограф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танавливают в положение «Пластины», а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— в поло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 «Вход X». В данном случае осциллограф используют в качестве инди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а высокочастотного напряжения. Включив и прогрев осциллограф, измен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т частоту ГВЧ. При совпадении частот ГВЧ и резонансной частоты контур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на экране осциллографа появится вертикальная линия. Уменьшив до н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я напряжение иа входе усилителя, замечают положение точки иа масштаб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тке перед экраном и затем вновь увеличивают входное напряжение до з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ния, при котором увеличение длины вертикальной линии замедлится. Отсч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в при этом значение входного напряжения в делениях масштабной сетки 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ответствующее значение выходного напряжения, определяют коэффициен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ения каскада К=ивых/иВх (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— в делениях сетки) при резонанс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е.Рис. 42. Резонансные усилители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 — на транзисторе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6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на лампе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лее, изменяя частоту ГВЧ в обе стороны от резонансной и отмеча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этом деления шкалы конденсатора настройки генератора, по длине лини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масштабной сетке строят амплитудно-частотную характеристику каскад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зонансную кривую снимают при различных входных сопротивлениях следу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щего каскада. Для этого к точкам ■ 3, 4 подключают резисторы сопротивлением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1042920" y="1484280"/>
            <a:ext cx="6624360" cy="2879280"/>
            <a:chOff x="1042920" y="1484280"/>
            <a:chExt cx="6624360" cy="287928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39880" y="1484280"/>
              <a:ext cx="5927400" cy="21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042920" y="3783960"/>
              <a:ext cx="2898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Рис. 42. Резонансные усилители: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о — на транзисторе;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Garamond"/>
                </a:rPr>
                <a:t>6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— на ламп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, 50, .10, 5 и 1 кОм, снимая каждый раз амплитудно-частотную характер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ку каскада. Кроме входного сопротивления следующего каскада к контур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оказывается присоединенным выходное сопротивление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сравнительно малое сопротивление (10... 20 кОм) несколько ухудшает 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метры каскада, делая более пологими склоны его частотной характерис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^Увеличение входной емкости С'Вх приводит к смещению резонансной частот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контура в сторону более низких частот, но форма резонансной кривой при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изменяе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овый резонансный усилитель. В резонансном усилителе иа лам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ычно используют высокочастотные пентоды. Типовая принципиальная схе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нокаскадного резонансного усилителя радиочастоты лампового радиоприе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 ника показана на рис. 42,6. Назначение его деталей разъяснено в предыдущ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разделах. Следует отметить, что в сравнении с аналогичным усилителем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е ламповый каскад может обеспечить большее усиление, так ка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ея высокое выходное сопротивление, он в меньшей степени шунтирует ко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тельный конту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роверки лампового резонансного усилителя необходимы фабрич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боры. Однако его работоспособность в неработающем радиоприемнике мо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проверить с помощью осциллографа. Для этого- к входу осциллографа п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лючают высокочастотный пробни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устанавливают в положение «Усилитель». Пробни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ключают к аноду лампы резонансного каскада. Подключив к приемн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нтенну, вращают ручку настройки, следя за экраном осциллографа. Если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яемый каскад и предыдущие узлы приемника исправны, то при настрой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на мощную станцию иа экране появится хаотически движущееся изобра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модулирующего сигнала радиостанции. Если этого нет, пробник соединяют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правляющей сеткой лампы. Появление на экране изображения модулирующ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сигнала укажет иа неисправность в проверяемом каскаде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6. Детекто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ектор используют в радиоприемниках и телевизорах для преоб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ования высокочастотных модулированных колебаний в колебания модулиру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его сигнала. С помощью детектора из поступающего в приемное устройст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сокочастотного сигнала «извлекают» сигналы звуковой частоты или виде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ы, т. е. сигналы изображения, В зависимости от вида модуляции вы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частотного сигнала используют амплитудный детектор или детектор час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о-модулированных колебаний. Будем далее рассматривать работу амплитуд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о детектора, имеющего наибольшее примен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ункциональная схема его показана н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43,а.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дес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* — сигна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сокой частот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, модулированный по амплитуде напряжением звуков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ы и3ч;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iix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 напряжение звуковой частоты, выделяемое иа вых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ектора;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*, Св* — входное сопротивление и емкость детектора, т. е. 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тивление между контактами 1 и 2, на которое нагружен предыдущий к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д; 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'вх — входное сопротивление и емкость последующего каскада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ко входу 1, 2 детектора подвести высокочастотный модулированный сиг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, то на ныходе 3, 4 детектора появятся колебания, повторяющие по фор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дулирующий сигна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новным показателем детектора является коэффициент передачи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Кд, характеризующий эффективность детектора, его способность п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ывать поступивший на вход модулированный высокочастотный сигнал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826920" y="620640"/>
            <a:ext cx="7417080" cy="5400360"/>
            <a:chOff x="826920" y="620640"/>
            <a:chExt cx="7417080" cy="5400360"/>
          </a:xfrm>
        </p:grpSpPr>
        <p:pic>
          <p:nvPicPr>
            <p:cNvPr id="34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60760" y="620640"/>
              <a:ext cx="5538960" cy="44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826920" y="5324040"/>
              <a:ext cx="7417080" cy="6969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43. Детектор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а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функциональная схема; б — принципиальная схема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г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амплитудно-частотная характе-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тика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в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зависимость коэффициента передачи от сопротивления нагруз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231160" cy="4029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58920" y="480456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4. Радиолампы и полупроводниковые прибо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— двухэлектродная лампа (диод); б — полупроводниковый днод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усилитель   г— усилитель на транзис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 низкой частоты. Чем больше знач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hx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ектора прн неизмен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араметрах модулированного сигна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тем лучше эффект детектиров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выше коэффициент передачи напряжения детектора. В приемных устройств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чти повсеместно используются полупроводниковые диоды. Поскольку диод н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является усилительным элементом, при диодном детектировании возникают оп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деленные невосполнимые потери, и коэффициент передачи диодного детек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 всегда меньше единиц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ругим важным показателем детектора является амплитудно-частотная х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ктеристика, показывающая зависимость коэффициента передачи Кд от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ы модулирующего сигна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при постоянных значениях уровня высоко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ного сигнала иВч и коэффициента модуляции М (%)■ Эта характерис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 форме подобна характеристике усилителя звуковой частоты. За ее гранич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е частоты принимают частот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при которых коэффициент передач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нижается примерно на 30%. Интервал между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представляет соб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осу выделенных детектором частот. Если детектор используют для выд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ния напряжения звуковых частот, то, подобно усилителю напряжения звук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й частоты, его характеристика должна простираться до 15... 20 кГц. В сл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е использования детектора в телевизоре для получения видеосигнала полос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пускания детектора должна быть около 7 МГц. Для получения столь ш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кой полосы сопротивление и емкость нагрузки детектора в канале изоб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я телевизора должны быть в десятки раз меньшими, чем в вещательн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емник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диодного детектора имеет значение и такой показатель, как входно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е. При малом входном сопротивлении колебательный контур,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руженный на детектор, сильно шунтируется, его избирательность ухудшаетс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нижается коэффициент усиления каскада перед детектором. Входное со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ивление детектора увеличивается при увеличении сопротивления его нагруз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нципиальная схема диодного детектора, используемого в радиопри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ках, приведена иа рнс. 43,6. На катушку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(точки 1, 2) поступает от п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ыдущего каскада высокочастотный модулированный сигнал. Диод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скает положительные полуволны этого сигнала, и в цепи детектора возни-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h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ет пульсирующий ток,, среднее значение которого меняется с частото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м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|' дулирующего напряжения, т. е. с напряжением звуковой частоты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. является сопротивлением нагрузки диода; иа нем выделяется напряжение з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ковой частоты иВы*. Чтобы «отделить» его от высокочастотных составляющих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ые могут проникнуть в Нагрузки и создать помехи, установлен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| тор С1. Емкость его подбирают такой, чтобы сопротивление конденсатора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оких частотах было ничтожно малым. Тогда высокочастотные составля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I адие, замыкаясь иа конденсаторе, не попадут в нагрузку. Вместе с тем для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уковых частот сопротивление конденсатора должно быть в 10... 20 раз боль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 сопротивления нагрузки, чтобы ие ослаблялся полезный сигнал. Если бы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тектор подавалось смодулированное высокочастотное напряжение, то ди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&gt; вел бы себя так же, как в обычном    выпрямителе: н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случае появилось бы постоянное напряжение тем большее, чем больше ампли-*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да высокочастотного сигнала.    Конденсатор    С2 является разделительны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соединяемое к выходу детектора устройство должно иметь возможно б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е сопротивл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*. В противном случае коэффициент передачи Кд у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ится, эффективность детектирования ухудши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детекторе можно использовать любые высокочастотные диоды, приче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ярность их включения ие имеет значения (кроме видеодетекторов). Если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у детектора присоединяется транзисторный усилитель звуковой частот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I то емкость разделительного конденсатора С2 должна быть 10 ....100 мкФ.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лучае использования лампового усилителя    достаточна емкость 0,005... 0,0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кФ. Катушку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 наматывают иа каркасе диаметром 8 мм. Она содержи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около 1000 витков провода  ПЭВ 0,1, намотанных внавал, ширина намот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10... 15 мм. Концы катушки закрепляют липкой ленто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кет детектора проверяют с помощью осциллографа (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положении «Пластины»), ГЗЧ и ГВЧ. Общие шины детектора и прибор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соединяют между собой. Включив приборы, подают сигнал частотой 1 кГц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на инездо XI ГВЧ. С его гнезда Х4 сигнал подают на катушку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тектора. С этой же точкой соединяют вход осциллографа, на экране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лжно появиться изображение    модулированного   высокочастотного сигн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[ (см. рис. 2,г). Регулируя  ГЗЧ, устанавливают по изображению коэффициент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дуляции М=0,3 (такое значение принято при измерениях в детекторе).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го регулируют выходное напряжение ГЗЧ, так чтобы знач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4 (ко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тво делений на масштабной сетке) составило   О.ЗТЛч (также в деления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Затем вход осциллографа соединяют с верхним выводом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На э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не должна  появиться    осциллограмма    модулирующего напряжения иВых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Измерив его амплитудное значение и зная амплитуду высокочастотног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иВч, определяют коэффициент   передачи детектора  по формуле Кд =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■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bIs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U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меньшив сопротивл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а 50 и 75%, затем увеличив на 100 и 200%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яют в каждом случае коэффициент передачи детектора и строят г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ик (рис. 43,г). После этого определяют значение Кд на высшей модулиру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ей частоте 10 кГц при всех указанных значения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По результатам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ний строят график (рис. 43,в), из которого можно заключить, что амплиту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-частотная характеристика детектора имеет тем большую неравномер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м больше сопротивл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Увеличение емкости- конденсатора С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же приводит к завалу характеристики на высоких частот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заключение следует устаябвить, как влияет изменение сопротив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грузки детектора на его входное сопротивление. Входное сопротивление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ктора (Можно определить упрощенным способом: ко входу детектора, сое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нному с выходом ГВЧ, подключают осциллограф в режиме «Пластины». П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ям масштабной сетки подсчитывают вертикальный размер осциллограм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звуковой частоты отключают от ГВЧ и на вход детектора под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модулироваияый сигнал высокой частоты (от ГВЧ). На экране осциллограф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удет видна горизонтальная полоса. По делениям на масштабной сетке оп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яют вертикальный размер полосы. При номинальном сопротивлени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к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у детектора присоединяют вспомогательный резистор. Его сопроти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бирают таким, чтобы вертикальный размер осциллограммы уменьшился р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вдвое. Это произойдет при примерном равенстве входного сопротив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тектора и вспомогательного резистора. Далее измеряют знач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с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бирают сопротивление вспомогательного резистора, по которому находя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вое входное сопротивление, и т. д. В итоге будет получена интересующ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с зависимос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7. Генератор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экспериментов с генераторами можно использовать описанны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нее ГЗЧ, ГВЧ и ГИ. Ограничимся проверкой ГЗЧ и ГИ. Целью провер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является определение возможности получения новых выходных параметро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ЗЧ и ГИ (см. рис. 25 и 26). Для изменения частоты ГЗЧ необходимо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брать новые значения резисторов и конденсаторов, образующих фильтр (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мер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l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—СЗ). При подборе необходимо осуществлять пропорци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ьное изменение данных деталей. Например, если сопротивление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меньшится в 2 раза, то во столько же раз нужно уменьшить сопротивлени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, и т. д. Изменения частоты и формы импульсов ГИ достигают за счет и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ения емкости конденса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2 и (или) сопротивлений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Чтоб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же изготовленные генераторы сохранить в качестве законченных устройств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комендуется специально для экспериментов собрать по приведенным схема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ЗЧ н ГИ новые маке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4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ОВЕРКА РАДИОАППАРАТУР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помощью описанных приборов можно найти и устранить не слиш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 сложные неисправности в радиоприемнике, телевизоре, магнитофон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угой радиоппаратуре бытового назначения. Естественно, в зависимости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ний, имеющихся у радиолюбителя, объем проверки может быть больши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ли меньшим, но в любом случае, работая со своими приборами, ои получи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езные навыки, необходимые как для налаживания и ремонта, так и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струирования радиоаппарату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процессе проверки радиолюбитель должен обнаружить   место     (узе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лок), где находится неисправность, найти поврежденную деталь н в завис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сти от степени повреждения либо заменить ее, либо обратиться за. помошь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 более квалифицированному специалисту, задача которого значительно у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ится, так как ему не придется повторно искать место повреждения. Когд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ходит из строя, чрезмерно нагревшись, резистор, то уже поверхностный 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тр аппарата позволяет без труда обнаружить неисправность или, во всяк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 случае, место неисправности. Часто неисправности не удается обнаружи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[ внешним осмотром, но имеются общие методы их нахождения, которые дол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I жен зиать радиолюбитель, приступающий к проверке своего радиоприемн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I  ка, телевизора, усилител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боту начинают с ознакомления с принципиальной схемой аппарата 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зучения инструкции по ремонту, если она имеется. По схеме необходимо оп-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делнть, как взаимодействуют узлы и каскады, наметить последовательнос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борки аппарата. В ламповой конструкции, где отсутствует световой инд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тор включения, о включении можно судить по нагреву радиоламп и свеч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ю нитей накала. В аппарате на полупроводниковых приборах индика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ключения имеется ие всегда, поэтому, если аппарат не работает, то прежд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сего следует проверить предохранитель, шнур питания, наличие контактов 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лодце переключения сетевого напряжения. Извлекать предохранитель из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незда для проверки необходимо только при отсоединенном от электросет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нуре питания. Еще раз подчеркнем, что при работе с радиоустройствами н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ходимо строго соблюдать правила техники безопасности!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ле извлечения шасси из корпуса осмотром устанавливают, нет ли с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| дов чрезмерного нагрева деталей, вытекания' электролита из электролитических</a:t>
            </a:r>
            <a:br>
              <a:rPr sz="1400"/>
            </a:br>
            <a:r>
              <a:rPr b="1" i="1" lang="en-US" sz="14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нденсаторов. Для проверки сомнительной детали следует отпаять один из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t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е выводов, если это резистор, конденсатор, диод или моточное изделие с дв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' мя выводами, и после этого измерить сопротивление или емкость, проверить о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* сутствие обрыва в диоде, трансформаторе или короткого замыкания в   эти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талях. Если деталь имеет несколько выводов, например транзистор, тран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орматор с несколькими обмотками, то прежде чем ее проверить необходим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паять все выводы (кроме какого-то одного), навесить на отпаянные концы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I бумажные бирки с обозначением места пайки, а затем произвести проверку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проверке деталей, размещенных на печатных платах, следует иметь    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иду что платы нередко покрывают изоляционным лаком. Поэтому для иадеж-</a:t>
            </a:r>
            <a:br>
              <a:rPr sz="1400"/>
            </a:b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ого контакта щуп измерительного прибора должен быть заострен, чтобы и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было проколоть слой лака, освободив доступ к выводу детал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путем осмотра неисправность обнаружить ие удалось, приступают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^проверке аппарата с помощью описанных приборов. Ее обычно начинают С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рямителя, продвигаясь от выходных узлов к предыдущим вплоть до вх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ных цепей. Если в распоряжении радиолюбителя имеется электромонтаж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схема аппарата, его узлов или блоков, то это может ускорить отыскание н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рав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д проверкой лампового устройства лампы в подозреваемом участ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еняют- заведомо исправными, и ремонт может не потребоваться. Послед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ельность проверки сложной аппаратуры устанавливают исходя из след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щих соображений. Если, например, в радиоприемнике при исправном бло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тания и подключенной аитение отсутствует звук, нет смысла начинать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I проверку с входных каскадов. Естественно, нужно обратить внимание в пер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вую очередь на выходную часть: проверить, нет ли обрыва в звуковой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шке динамической головки, в цепях, соединяющих динамическую головку 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ым каскадом УЗЧ, неисправности в выходном оконечном каскаде,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ыдущем каскаде усиления звуковой частоты и т. д. Если в телевизо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наличии звука и ярком экране отсутствует изображение, то нужно пров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ть цепи, соединяющие выходной каскад видеоусилителя с кинескопом, з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м сам выходной каскад, далее его входные цепи и т. д. Говоря иначе,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авление проверки должно быть от выхода устройства в сторону его вход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а радиоприемника или телевизора состоит из следующих этапов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бником проверяют отсутствие замыканий в источнике питания на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е (между положительным и отрицательным полюсами), между провод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 илн шинами, подводящими напряжение питания к устройству н ее отде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м участка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 участка, где сигнал должен 'быть, но не обнаруживается, продвигаяс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торону предшествующих каскадов, проверяют с помощью осциллографа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ио все пути прохождения сигнала. В качестве источника испытатель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сигнала используют в зависимости от предполагаемого характера неиспр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и аитеину, звукосниматель, ГВЧ, ГЗЧ, Г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сто или участок, где сигнал пропадает, тщательно изучают (провер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сутствие обрывов, замыканий в соединительных проводах, в контактах п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ключателей, разъемах, гнездах, ламповых панелях, в деталях); оцен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чество пайки, изготовления печатных плат (нет ли отслоений токопровод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х участков на плате, трещин и других видимых дефектов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тем включают питание аппарата и измеряют напряжения в обычно у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ываемых иа схемах промышленных устройств точках; проверяют транзистор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ановленный иа рассматриваемом участке. Поскольку полная проверка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а является делом достаточно сложным, проще заменить его новым, з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омо исправны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олнив перечисленные действия, обычно можно устранить возникшие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диоаппаратуре неисправности. Конечно, неполадки бытовой радиоаппарат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ы промышленного производства, как и любых радиоэлектронных прибор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гут быть- самого разного характера, а перечисление всех неисправносте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тречающихся в этих устройствах, вряд ли было бы возможно. Однако п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ные примеры помогут радиолюбителю получить начальные знания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ыскания неисправност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верка электрофона Роидо-203&gt;. Функциональная схема электрофо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ведена иа рис. 44. Напряжение от источника сигнала (магнитофона, тран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яционной линии и т. п.) через контакты переключател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 поступает 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ход первого каскада УЗЧ (тран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). Второй каскад выполнен 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зисторах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; в нем частотная характеристика корректируется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зкочастотном и высокочастотном участках полосы частот усилителя. В п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ледующих каскадах усиления напряжения звуковой частоты использу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зистор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. Усилитель мощности собран иа транзисторах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 (каскад предварительного усиления) 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8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9 (оконченный каскад)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грузкой усилителя служит сопротивление звуковых катушек динамическ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оловок ВА1 и ВА2. Напряжение питания поступает на усилитель с выпрямител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диодах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—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. Стабилизация напряжения питания отсутствуе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оложим, неисправность проявляется в том, что при включении элек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офон «молчит», хотя индикатор включения светится. Молчит ои прн люб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жиме работы: проигрывании грамзаписи, подключении трансляционной ли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 т. д. Отсоединив аппарат от сети, проверяют, нет лн обрыва в цепи, соедн-'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диолампы, полупроводниковые приборы, микросхемы. В бытовой ради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онной аппаратуре используются радиолампы, полупроводниковые приб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ы и микросхемы. Их применяют для усиления сигналов, преобразования ч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ты, генерации (создания) колебаний. Наиболее простая радиолампа—диод 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стоит из двух электродов — анода и катода (рис 4,с). Катод К нагре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с помощью источника тока. При лагреве катода из него излучаются элек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ны, которые группируются в ближайшей к катоду области. Если иа ан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ать положительное по отношению к катоду постоянное напряж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 электроны тотчас же устремятся к аноду, т. е. под воздействием прилож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извне напряжения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оде возникнет ток I. Если напряжение на ан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нное, то электроны будут двигаться к аноду только в моменты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Ьн находится под потенциалом положительной полуволны напряжения. Ины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овами, в этом случае через диод будет протекать прерывистый, пульсиру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й то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стейшее полупроводниковое устройство — диод — также имеет д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вода — катод н анод. Если к полупроводниковому диоду приложить п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янное напряжение, то от эмиттера к базе потечет ток. В случае прило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нного напряжения этот ток будет пульсирующи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ис. 4,а, б и вакуумный (ламповый)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проводниковый диоды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ьзуются одинаковым образом как выпрямители: из подаваемого иа вход 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соидального вапряжения на выходе образуется выпрямленное напряжение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53320" cy="3586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99560" y="4941000"/>
            <a:ext cx="72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' 44. Функциональная схема электрофона «Рондо-20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яющей тран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 с динамическими головками. Вполне возмо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, что электрофон исправен, но из-за нарушений в указанной цепи сигнал 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ходит до головок. Проверку ведут с помощью пробника. Один из провод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единяют с левым по схеме выводом динамической головки ВА1, а втор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довательно прикасаются к участкам цепи, соединяющей динамические г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вки с точкой соединения тран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. Если цепь оборвана, н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ходимо просмотреть ее дальнейшие участки, найти место обрыва и уст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ть неисправность. Найти обрыв в этой цепи нетрудно — ои может быть в 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е припайки проводов иа разъеме или в звуковых катушках голово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проверяются выпрямители, хотя вероятность короткого • замыкания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х мала (иначе вышел бы из строя предохранитель). Концы пробника со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няют с выходом выпрямителя. В момент присоединения стрелка проб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лжна отклониться до нуля, а затем, по мере зарядки конденсатора фи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 напряжением от пробника, батареи, вернуться в положение «оо». Из эт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но заключить, что короткого замыкания иа выходе выпрямителя нет.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ку цепи целесообразно повторить, поменяв местами концы пробника. Ес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наружено короткое замыкание, его местонахождение может быть в эл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х выпрямителя или в остальной части устройства. Отпаяв от нее отриц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ный вывод выпрямителя, вновь проверяют пробником цепн выпрямите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замыканий не обнаружено, то, ие отсоединяя пробник, восстанавл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единение выпрямителя с остальной частью устройства. Если при этом пр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к укажет иа замыкание, значит, оно произошло в устройстве, которое над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ить тем же пробник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обнаружено замыкание в выпрямителе, то следует проверить про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ком конденсаторы фильтра и диоды выпрямителя. Попутно отметим, ч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замыканиях в конденсаторах диоды, как правило, выходят из строя. Дл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х проверки один из концов каждого диода отпаивают. Продолжая проверку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ключают осциллограф и ГЗЧ, общую шнну электрофона соединяют с общ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и шинами осциллографа и ГЗЧ. Электрофон включают в сеть, с помощ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циллографа измеряют постоянное напряжение на конденсаторах фильтра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печатных проводниках монтажной платы. Затем на контрольную точку КТ2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дают напряжение от ГЗЧ с частотой 1 кГц. Если звук в динамических г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вках не появится, то с помощью осциллографа проверяют наличие и форм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а от ГЗЧ на коллекторах транзи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 и эмиттерах траизи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6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9. Найдя транзистор, на электроде или электродах котор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т сигнала, проверяют его режим, детали «обрамления» и устраняют найде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ую неисправност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проверенная часть устройства исправна и звук имеется, подают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от'^ ГЗЧ на контрольную точку КТ1. Громкий, неискаженный зву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динамических головках при нормальной работе регуляторов громкости и т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ра будет свидетельствовать, о том, что молчание электрофона объясня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рушением контактов в входных цепях, где установлен кнопочный перек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тель. В этом случае сравнительно просто отыскать место неисправности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мощью пробника. Если подключение ГЗЧ ко входу усилителя (точка КТ1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 привело к появлению звука, то проверку усилителя продолжают покаска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о. Как и в предыдущем случае, вход осциллографа поочередно соединяют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ллектором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, затем с его базой, далее с базой транзистора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, коллектором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Обнаружив узел, где пропадает сигнал ГЗЧ, прове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т его детали, используя осциллограф и пробни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йдя неисправность, устраняют ее и проверяют, работу электрофона пр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спроизведении грамзаписи н от других источников сигнал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верка радиоприемника «Серенада-405». -Функциональная схема ради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емника приведена на рис. 45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игнал, принятый антенной, поступает на систему входных контуров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реключателем диапазон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 далее иа вход преобразователя частоты,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тором используются тран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(смеситель) 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 (гетеродин).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сигнала и гетеродина подаются на базу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 Диапазо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бирается переключением входных контуров и контуров гетеродина с пом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щью механически связанных переключателей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. На выходе перв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скада выделяется сигнал промежуточной частоты. Усилитель сигналов пром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уточной частоты собран на транзисторах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его выхода сигна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межуточной частоты поступает на детектор, выполненный на диод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ученный в результате детектирования сигнал звуковой частоты поступа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 усилителя, который собран иа транзисторах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. При воспроиз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дении грамзаписи используется добавочный каскад УЗЧ иа транзистор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полняющий двоякую роль: при радиоприеме — усиление промежуточной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ы, при воспроизведении грамзаписи— усиление звуковой частоты. В п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днем случае сигнал от звукоснимателя через развязывающий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дается на базу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, усиливается н через контакты переключ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л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в положении «Грамзапись» поступает на вход УЗЧ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.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ллекторную цепь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7 включена динамическая головка ВА1. 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иоприемник питается от выпрямителя иа диодах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положим, неисправность приемника проявляется в том, что при е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ключении в сеть не обеспечивается ни радиоприем, ни воспроизведение гр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писи. Свечение индикатора включения показывает, что предохранитель цел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верку начинают с общего осмотра радиоприемника. Затем проверяют вы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митель на отсутствие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мыканий. С этой целью при отключенной се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соединяют пробник к выходу фильтра. Убедившись, что замыкания н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ступают к проверке приемника во включенном состоянии. Измеряют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на выходе фильтра, которое должно быть не меньше 20 В, и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чатных проводниках монтажной платы. Начинать с измерения постоян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й иа транзисторах и других участках устройства при наличии 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иллографа нет необходимости, поскольку неисправности могут иметь место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при соблюдении требуемых режимов. Проверка осциллографом наличия сигнало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а радиоэлементах наглядным образом укажет местонахождение неисправ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и, где н потребуется провести измерения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ановив регулятор громкости иа наибольшую громкость, соедиияю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 осциллографа с контрольной точкой КТ6. Переключатель диапазонов у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навливают в положение «ДВ*. Вращая ручку настройки, следят за лини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вертки иа экране. Осциллограф в данном случае используется как ин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тор сигнала иа выходе детектора. Если приемник настроен на станцию,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е появятся хаотические линии, исчезающие при расстройке приемник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свидетельствует о работоспособности его высокочастотной части. Для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ки усилителя звуковой частоты (тран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7) на контрольн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ку КТ6 подают сигнал от ГЗЧ. Регулятор громкости приемника устанав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в положение наибольшей громкости. Если при вращении регуля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Выход» ГЗЧ появится громкий неискаженный звук, значит, низкочастот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ь приемника работает нормально и неисправен, скорее всего, переключ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(обрыв проводов, поломка или окисление контактов и пр.). На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ят место нарушения контакта с помощью пробника, прозванивая подозре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ую цепь или детал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сутствие звука говорит о возможной неисправности усилителя. В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 вход осциллографа подключают к базе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, потом к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ллектору, затем к базе и эмиттеру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и, наконец, к коллек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7. Если сигнал имеется иа всех электродах, кроме колле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последнего транзистора, и постоянное напряжение на коллекторе по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о, то причиной этого может быть, скорее всего, неисправность транзи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 или замыкание в конденсаторе С34. Если сигнала нет на электродах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а другого каскада, то проверяют детали этого каскада, наде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единений и в последнюю очередь —^транзистор. Заменив неисправные д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и и добившись громкого неискаженного звука, ГЗЧ отключают и провер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емник при радиоприеме и воспроизведении грамзаписи. Убедившись в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рмальной работе, заканчивают проверку. Если же при исправном УЗЧ 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ет высокочастотная часть, то проверку ее ведут покаскадно, использу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 с высокочастотным пробником. Подключив пробинк к коллекто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пытаются настроить приемник на сигналы мощной ради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анции на длинноволновом диапазоне, используя осциллограф в качестве и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катора настройки. Не добившись приема, соединяют ВЧ пробник с колле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ом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(к контрольной точке КТЗ), затем с коллек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контрольная точка КТ2). Обнаружив каскад, в котором сигнал «ие проходит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точняют место неисправности, устраняют ее н проводят полную провер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описанным способом обнаружить сигнал не удается, 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ить гетеродин (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). К коллектору транзистора через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 емкостью 20 пФ присоединяют осциллограф. Его переключатель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ереводят в положение «Пластины», частоту развертки устанавл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ивысшей. При работающем гетеродине на экране осциллографа появи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мма колебаний гетеродина (10... 15 периодов). После э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иостью убедиться в исправности гетеродина, подключают, проявляя о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жность, сначала к общей шине, а потом к базе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вывод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помогательного конденсатора емкостью 0,1... 0,5 мкФ. Если при этом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ойдет срыв колебаний, а при отсоединении конденсатора они возникн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новь, то это означает, что гетеродин работает более или менее норм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исправность следует искать в соединительных цепях и переключателе диапазонов, что не представляет большого тру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метим в заключение, что в радиоприемнике проверкой были охваче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статочно полно все каскад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а телевизионного приемника. Для проверки в качестве при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ользуем ламповую конструкцию. В этом случае значительно уменьшит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асность случайной порчи деталей, например транзисторов. Известно, что*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йное прикосновение металлическим предметом (пинцетом) к выводу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а или к какой-либо расположенной рядом детали при скученном м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же может мгновенно вывести транзистор из строя. В этом смысле лампов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струкция имеет большое преимущество, поскольку радиолампы не стол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увствительны к перегрузкам. Удобно использовать черно-белый телевизор 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а УЛПТ-61, к которому относится модель «Славутич-218» и который д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аточно широко распространен. Наряду с лампами в нем применяютс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проводниковые прибо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-за ограиичеиности объема книги принципиальная схема телевизора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ч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е описание не приводятся. Порядок проверок поясняется с помощью функц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нальной схемы, приведенной на рис. 46. Функциональная схема составле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основе принципиальной схемы без учета ряда второстепенных устройст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евизор состоит из нескольких узлов, основные из которых: У1 — узел с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ктора каналов; У2 — узел усилителя промежуточной частоты (ПЧ) из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ражения и звука; УЗ — узел усилителя ПЧ частоты звука; У4 — узел си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онизации и разверток; У5 — узел питания. Телевизионный сигнал посту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 из антенны на вход узла У1 селектора каналов метрового диапазона (в сл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е приема иа 1—12 каналах), преобразуется в нем в сигналы промежуто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х частот изображения и звука, которые подаются на вход узла У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зле 2 находятся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н тран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усилите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Ч изображения и звука, амплитудный детек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ламп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для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я видеосигналов и формирования напряжения автоматической регу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вки усиления. В этом узле телевизионный сигнал, включающий сигнал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34034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954360" y="4723560"/>
            <a:ext cx="73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46. Функциональная схема телевизора «Славутич-218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ображения, ПЧ звука н синхронизации, проходит следующий путь. Поступ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управляющую сетку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он усиливается и с ее анода через 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ему контуров поступает на вход второго каскада усиления на транзистора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Эти транзисторы включены последовательно. Входом каскада сл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ит база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выходом — коллектор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С вых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а сигнал подается на управляющую сетку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третьего, после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го каскада усиления ПЧ. С анода лампы через контурные цепи сигнал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упает на амплитудный детек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в котором выделяется видеосигнал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н отделяется от сигналов ПЧ зву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игналы ПЧ звука поступают на вход узла 3 для последующей обраб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. Видеосигнал поступает на управляющую сетку левого по схеме пент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бинированной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С его анода усиленный видеосигнал направл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на катод кинескопа на вход узла 4 для извлечения из видеосигнала с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ржащихся в нем синхронизирующих импульсов, а также на вход устрой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 формирования напряжения автоматической регулировки усиления, соб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 на правом по схеме пентод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зле 3 установлены тран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усилителя ПЧ звука, част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 детек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и ламп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усилителя зву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ы. Сигнал ПЧ звука с выхода видеодетектора узла 2 поступает на баз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н снимается с коллектора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(этот каска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обен каскаду на транзистора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узле 2). Поступив на в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 (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), сигнал ПЧ звука дополнительно усиливается и ч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 систему контуров подается на частотный детектор (диод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де преобразуется в сигнал звуковой частоты. С выхода детектора сигна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уковой частоты поступает на регулятор громкости, а с него — на базу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усилителя напряжения звуковой частоты. С коллектора транзи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напряжение поступает на управляющую сетку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выходног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скада. В анодной цепн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 установлен трансформатор, со втори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обмоткой которого соединена звуковая катушка динамической головкн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узле 4 установлены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6 селектора (выделителя) синхронизир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щих импульсов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7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8 генератора кадровой развертки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—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1 г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ратора строчной развертки. На корпусе строчного трансформатора устано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на ламп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2 высоковольтного выпрямителя. Особенность узла 4 состои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том, что он может нормально работать в отсутствие телевизионного сигнал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ледний только задает, «диктует» генераторам строк и кадров частоту,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ой они должны работать при приеме телевизионных передач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ути прохождения сигналов в узле 4 следующие. Видеосигнал с анод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(узел 2) поступает на управляющую сетку пентодной части ла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6, а с ее анода — на управляющую сетку ее же триодной части. В ано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цепн триода выделяются импульсы для синхронизации генератора стро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(строчные синхроимпульсы) и кадровой (кадровые синхроимпульсы) ра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ртки. Строчные импульсы через соответствующие цепи поступают на двой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триод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, вырабатывающий напряжение пилообразной формы с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й строк. Это напряжение подается на управляющую сетку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выхо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го каскада строчной развертки.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образуют генерато;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рочной развертки, частота которого при приеме сигналов телецентра зад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тся селектором синхроимпульсов н равна частоте строчных синхроимпульсов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анодной цепи 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включен выходной строчный трансформатор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сколькими обмотками. К одной из них, повышающей, подключена ламп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2 выпрямителя напряжения 16... 18 кВ для питания анода кинескопа.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ругой соединены строчные отклоняющие катушки, обеспечивающие отклон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 луча в горизонтальном направлени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улучшения формы пилообразного тока в строчных катушках и пред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вращения в их цепях колебательного процесса, что проявлялось бы на из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ражении в виде вертикальных темных н белых полос в левой части экран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пользуется ламп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1, с помощью которой паразитные колебания гасятся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свобождаемая при этом электрическая энергия преобразуется в постоя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е напряжение, называемое вольтодобавкой. Напряжение вольтодобавки су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руется с напряжением выпрямителя в достигает 700... 1000 В. Это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 используется для питания электродов кинескопа и отдельных цепей г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ратора кадровой развертк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опоставление лампового диода и полупроводникового, ие требующего при р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оте ии вакуума, ни нагрева, говорит о больших преимуществах полупровод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кового диода, позволивших ему почти полностью вытеснить из радиоэлек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онных устройств ламповые диоды. Основное назначение полупроводниковы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иодов — выпрямление переменных и импульсных напряжений, детектирова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дулированных сигналов в п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я усиления или генерирования электрических колебаний также преиму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щественно используют полупроводниковые приборы — транзисторы. Однако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ытовой радиоэлектронной аппаратуре до настоящего времени наряду с тра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исторами применяют и радиолампы. Усилительная лампа — триод — отлич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тся от диода тем, что между ее катодом и анодом установлен третий элек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од— управляющая сетка, — представляющий собой металлическую сетку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дровые синхроимпульсы с анода триода ламп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 поступают на дво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й трнод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, создающий пилообразное напряжение кадровой частоты. Э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пряжение с анода левого по схеме триода псдаетси на управляющую сетк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ходного каскада кадровой развертки на ламп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8. Как и в предыдуще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лучае, ламп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 н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8 образуют генератор кадровой развертки, частот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торого также управляет селектор импульсов синхронизации — каскад и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амп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. В анодной цепи ламп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8 включен трансформатор, к вторичн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мотке ■ которого присоединены кадровые отклоняющие катушки, перемещаю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щие луч кинескопа в вертикальном направлении. Кадровые и строчные катуш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ьи установлены на общем основании и образуют обособленный конструктив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й узел — отклоняющую систему (ОС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зел 5 является узлом питания телевизора и обеспечивает получение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й переменного тока для питания накала ламп, напряжений постоя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го тока (шесть номиналов) н др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телевизора, отыскание и устранение возникших в нем неиспр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ей производят с учетом изложенной ранее последовательности провер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ли отыскания неисправности. Начнем с наиболее часто встречающихся не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авностей телевизор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Антенна исправна, предохранители целы, есть изображение — нет звук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пользуемся функциональной схемой для предварительных выводов.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кольку изображение имеется, значит, сигнал ПЧ изображения и звука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ит без нарушений по цепим узла 2 и теряется где-то после выхода за 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.ределы. Маловероятен, но не исключен обрыв соединительных цепей, по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ым сигнал от платы узла 2 должен поступать к плате узла 3. Эту цеп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званнвают пробником. Если она цела, то возможное место неисправ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ходится, видимо, в узле 3. Измеряют осциллографом постоянно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, имеющееся на плате узла Если его нет, выключив телевизор, прозван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пробником соответствующие цепи и находят обры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проверку ведут при включенном телевизоре (и с учетом требо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й техники безопасности!). Регулятор громкости устанавливают на наиб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ую громкость. Осциллограф с переключател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 положении «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» соединяют последовательно с анодом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, ее управляющей с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й, коллектором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 Таким путем находят место повре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силителе звуковой частоты. Не найдя его, присоединяют к входу осцнл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фа высокочастотный пробник и подключают его к коллектору транзис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, а затем к баз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, к коллектору тран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к базе транзистор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и, наконец, к контакту 15 на плате узла 3. Если пробник присоединен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равному участку, то на экране осциллографа изобразнтси сигнал, пропад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щий при переключении селектора каналов или отсоединении антенны. Найд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сто неисправности, определяют, как описано ранее, конкретный дефект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раняют е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Антенна исправна, предохранители целы, есть звук, изображение отсутст-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ует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ичие звука говорит о том, что снгиал ПЧ изображения и звука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вается нормально (иначе не было бы звука). Неисправность возможна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астке от детектора до кинескопа. Сначала измериют' осциллографом по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нные напряжения иа электродах левого по схеме пентода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Ес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каком-либо электроде напряжения нет или оно значительно меньше у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нного иа схеме, проверяют цепи, по которым напряжения подаются на эле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оды лампы. Если требуемые напряжения имеются, осциллограф присоедин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к аноду пентода, а в случае отсутствия там сигнала — к его управляющ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ке, затем к диоду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детектора, т. е. к контрольной точке КТ10 на при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пиальной схеме телевизора. Если сигнал имеется на аноде пентода, а из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ражение отсутствует, необходимо, используя пробник (омметр) и осцил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аф, просмотреть всю цепь от анода до платы кинескопа У8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ри исправной антенне и на любом диапазоне экран светится, но нет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ображения и звука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яют осциллографом наличие постоянног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на соответствующих печатных проводниках платы узла У2. При 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утствии на плате напряжения 160 В ^проверяют напряжение на выходе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мителя, откуда оио поступает на плату. Если отсутствие напряжения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вано перегоранием предохранителя Пр5, то, выключив телевизор, провер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бником, нет лн замыканий в цепях, по которым оно должно поступать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акт 53 узла 2. Устранив замыкания, проверяют работу телевизора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прн всех имеющихся напряжениях по-прежнему отсутствуют звук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ображение, то нужно проверить прохождение сигнала ПЧ в узле 2. Вы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частотный пробник с осциллографом присоединяют последовательно к а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у ламп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, затем к ее управляющей сетке, потом к коллектору транз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, базе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аноду и управляющей сетке ламп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ключение •— к контрольной точке КТ4. Найдя таким образом место не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авности, устраняют дефек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описанная проверка ие дала результатов, в качестве источника сиг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ла используют ГИ. Соединив общую шину генератора с общей шниой узл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гнездо ГИ «Выход» с контактом 42 на плате узла, т. е. подав сигнал Г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 усилителя ПЧ изображения, увеличивают напряжение П-импульсо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 наибольшего значения. Если прн этом на экране появятся перемежающи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 горизонтальные черно-белые линии, то узел 2 можно считать работоспосо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м, а селектор каналов — неисправны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проверки селектора его следует извлечь нз теленизора, разобрать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мотреть. Часто селектор выходит из строя кз-за порчн резистора 1-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2, ч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жно заметить по его обгоревшему лакокрасочному покрыти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Звук есть, экран не светится.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чиной может быть выход из .строя 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 (узел 2), цепей регулятора яркости (проверяют пробником на отсу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вие замыканий илн обрывов), илн генераторов развертки (узел 4). Ламп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веряют путем измерения напряжения на аноде пентода или замены 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ы новой. Генераторы развертки проверяют следующим образом. Сначала оп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деляют, имеется ли высокое наприженне (16... 18 кВ) на кинескопе. Провер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у ведут с помощью заземленного отрезка -изолированного провода с зачище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м концом. Здесь требуется определенная осторожность. Телевизор вык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ют, минут пять спустя снимают с вывода анода высокопотенцнальный 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д и размещают его в фиксированном положении на достаточно больш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уске плотного картона или фанеры. Включают телевизор и, взяв одной р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й заземленный провод, медленно приближают его к контакту на высоко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нцнальном проводе. Мощный искровой разряд при расстоянии 10... 15 м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кажет, что высокое напряжение для анода кинескопа имеется и причина о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утствия свечении экрана кроется в другом участке узла 4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помощью осциллографа проверяют генератор кадровой развертки. Вход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а соединяют с анодом правого триода лй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7. Если на экр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 появится изображение пилообразного напряжения с амплитудой не мене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20... 150 В—задающий генератор исправен. Вход осциллографа подключаю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 управляющей сетке выходной лампы кадровой разверт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8. Если пило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ное напряжение с .той же амплитудой имеется н на сетке, то проверяю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орму н амплитуду переменного напряжения иа аноде лампы (пилообразно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е с амплитудой 700 „1800 В). Если переменное напряжение на анод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амп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8 отсутствует или ^е^яревышает 100... 200 В, то причиной этого могу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ыть замыкания (как и обрывы) в деталях в анодной цепи лампы (выход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рансформатор, выпрямительный диод 5ГЕ40Ф, кадровые отклоняющие 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ушки). При неисправности каскада иа ламп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8 срабатывает устройство а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матического запирания луча кинескопа, что исключает прожог люминофор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ив детали, заменяют неисправную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сли высокое напряжение на аноде кинескопа отсутствует, то измеряют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на выводе 5 выходного трансформатора строчной- развертки 6-Т4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го значение должно быть в пределах 800... 1000 В. Пониженное да 240... 260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е однозначно укажет на неисправность в генераторе строк. Ее п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иной может быть выход из строя задающего генератора *начлаздне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. Соед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в вход осциллографа с анодом правого триода, проверяют, имеется лн пил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ное напряжение с амплитудой 160... 180 В на аноде. Если имеется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яют наличие пилообразного напряжения на управляющей сетке ламп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. Если оно есть н здесь, то выходной каскад (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) может не работа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по причине замыканий в его анодной цепи (в выходном трансформаторе, стро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йых отклоняющих катушках). Возможен пробой конденсаторов, подключенны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 трансформатору, как правило С6—СЮ. Если пилообразное напряжение не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батывается задающим генераторо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9, то каскад проверяют по описанном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ранее способу. После устранения неисправности в каскаде генератор строч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вертки должен работать, появится изображени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Перегорели сетевые предохранители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отыскания неисправности в эт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лучае отсоединяют поочередно провода от обозначенных на блоке пит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водов (А, Б, В и т. д.). На отсоединенный провод навешивают бирку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ответствующим обозначением, чтобы не перепутать отпаиваемые концы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ов. После каждой отпайки пробником проверяют выход выпрямителя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сутствие короткого замыка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5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ОПОЛНИТЕЛЬНЫЕ УСТРОЙ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диолюбителям, собравшим описанные в книге приборы и поработав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им с ними, рекомендуется пополнить свою лабораторию другими такими ж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сложными, но полезными устройствам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 осциллографа рассчитан на усиление напряжения звуковых частот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. е. частот примерно до 20 кГц. Это приемлемо при налаживании или экс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ментах с усилителями и другими устройствами, работающими в диапазо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вуковых частот. Более высокочастотные сигналы им не усиливаются. Межд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м часто возникает необходимость наблюдать форму сигналов значитель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более высоких частот, например при налаживании радиоприемников и телев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оров. Конечно, сигналы в этом случае можно подавать иепосредствеиио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ртикальные пластины ЭЛТ, минуя усилитель, который их ие пропускает. Э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зможно, если амплитуда сигналов составляет не менее 5... 10 В. В больши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ве случаев эти сигналы, прежде чем подать иа пластины, необходимо у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ь. Для этого нужен усилитель с достаточно широкой полосой пропуска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днако нужно учитывать, что расширение полосы частот усилителя п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ит к тем большему его усложнению, чем шире полоса. Исходя из этого в=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шем случае ограничимся полосой пропускания от 20... 30 Гц до 2,5... 3 МГц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хема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простого однокаскадного лампового усилителя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такой полосой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ускания приведена на рис. 47. Конструктивно его выполняют в виде небо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ой приставки, присоединяемой к соответствующим гнездам осциллограф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еспечивающего усилитель необходимыми питающими напряжениями. Ег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эффициент усиления, измеренный на частоте 1 МГц, составляет около 30„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Амплитудная характеристика линейна в пределах входного сигнала от нуля д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;0,75 В (при частоте 1 МГц). Входное сопротивление и входная емкость с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вляют соответственно примерно 400 кОм н 30 пФ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2195640" y="333360"/>
            <a:ext cx="5184720" cy="3887280"/>
            <a:chOff x="2195640" y="333360"/>
            <a:chExt cx="5184720" cy="3887280"/>
          </a:xfrm>
        </p:grpSpPr>
        <p:pic>
          <p:nvPicPr>
            <p:cNvPr id="38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195640" y="438480"/>
              <a:ext cx="5184720" cy="378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075280" y="333360"/>
              <a:ext cx="587880" cy="258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Garamond"/>
                </a:rPr>
                <a:t>СО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1187280" y="450864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47. Принципиальная схема широкопо- нентод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Поскольку нижня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сного усилител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аница частотной  характерист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усилителя должна быть не выше 20... 30 Гц, конденсаторы С1 и С2 име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авнительно большие ем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О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 ■ собран по прос-тейшей схеме, в нем не преду-смотрена коррекция во входныхцепях (как н в осциллографе)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этому при регулировке усиле-ния резисторо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форма час-стотной характеристики будет и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няться, однако в практике ра-диолюбителя это изменение нескажется существенным образом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гнал со входа поступает че-рез разделительный конденса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1 на регулятор усилени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, сдвижка которого через второй разделительный конденсатор С2 подается на управляющую сетку Конденсатор С2 установлен для того, чтобы не допустить попадания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правляющую сетку лампы положительного потенциала из анодно-экран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епи, с которой соединен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. Конденсатор С1 включен, чтобы проп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ить на указанный резистор только сигнал переменного тока. В противн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лучае при подключении усилителя или, что одно и то же,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н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редственно к источнику сигнала, у усилителя может изменяться режим п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тоянному току (например, напряжение иа электродах) н исказиться форм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ходного сигнала.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используют в качестве сопротивления утечк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тки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6 — как гасящий резистор в цепи экранной сетки. Конденсаторы СЗ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6 — блокирующие. В цепи анода включена нагрузка в ниде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н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рректирующей катуш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, обеспечивающей расширение частотной характ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стики- усилителя до 2,5... 3 МГц. С анода усиленный сигнал через раздел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ьный конденсатор С5 и корректирующую цеп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7, С7, также включенну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ля высокочастотной коррекции, подается к гнезду Х2 осциллографа. Необх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имые питающие напряжения на усилитель поступают с соответствующих гнезд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а. Для предотвращении самовозбуждении усилителя напряж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анодную цепь подается через развязывающий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. Конденсатор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4 — блокирующий. Элемент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, С4 образуют и корректирующую цепь, обе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чивающую необходимый подъем частотной характеристики усилителя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зкочастотной области. Если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осциллографа установлен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жение «Пластины», то напряжение с выхода усилителя-приставки пост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ает непосредственно иа вертикальные пластины ЭЛТ н на экране можно б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т увидеть осциллограмму высокочастотного сигнала. Наивысшая частот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звертки у осциллографа около 30 кГц. Зная ее, можно определить наивы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ую частоту сигнала, умножив поддающееся подсчету число периодов си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а на частоту развертки. Допустим, на экране можно отсчитать 25 четко ра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чных периодов сигнала, следовательно, его частота составляет 25X 30=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= 700 кГц. При более высокой частоте, вплоть до 2,5... 3 МГц, отдельные 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оды станут неразличимыми для глаза и на экране появится горизонтальная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Ьолоса, ширина которой (вертикальный размер) будет равна напряжению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&gt;'.маха высокочастотного сигна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положении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«Усилитель» сигнал с выхода усили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дя-приставки поступит на вход усилителя в осциллографе. В этом случае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Ьюса частот сократится и станет равной полосе частот усилителя осциллог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а. Однако общий коэффициент усиления при этом возрастает приблизите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в 30 раз, что позволит рассматривать иа экране сигналы' звуковых част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 с уровнем в тысячные доли вольта. В усилителе-приставке используют обы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е детали. Катушк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амотана внавал на резисторе МЛТ 0,5 (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м не менее 50 кОм) между его выступающими частями и содержит 120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тков провода ПЭВ-0,12. Усилитель монтируют на плате из изоляцио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териала  (прессшпан, фанера) без каких-либо особенностей и помещают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ходящий корпус. Экранировка усилителя не рекомендуется, так как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м повысятся входная и выходная емкости каскада. Высокочастотные каб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, соединяющие выход усилителя-приставки с осциллографом и ее вход с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едуемым участком налаживаемого радиоустройства,   должны обладать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еньшей емкостью. Поэтому их изготавляют следующим образом. На отрезо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ода диаметром 0,15.1.0,2 в любой изоляции надевают изолирующую (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р полихлорвиниловую) трубку. Концы провода зачищают и залуживаю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ин нз  концов  припаивают к вилке штекера.  Изолирующую трубку 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м вставляют в штекер и закрепляют в таком положении с помощью 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оцеллюлозного клея. Точно так же припаивают другой конец провода к вил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торого штекера. Следует учитывать, что при измерениях на частотах, пре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ающих 300... 500 кГц, подключение соединительных проводов привносит д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[ полнительную емкость в схем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усилителя-приставки ведут в следующем  порядке. Подключ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к осциллографу, устанавливают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в положение «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ь» и проверяют, регулируя усиление регуляторами как приставки, так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, как проявляется это на экране. Поскольку общее усиление дол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 жио резко возрасти, то чувствительность к электрическим наводкам усилите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! также повысится. При замыкании на массу входного кабеля усилителя-прист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линия развертки на экране должна оставаться практически неподвижн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 что свидетельствует " о нормальной работе   усилителей в комплексе друг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уг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угим устройством, использование которого может помочь радиолюб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ю при работе с телевизором, является генератор ступенчатого напряжени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его помощью можно упростить налаживание устройств развертк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режима работы видеоусилителя. Если напряжение от т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а подвести к видеоусилителю, то при определенных частотах ступ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того напряжения на экране появятся полосы убывающей или возрастающ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ркости. По распределению полос можно судить о линейности развертки, а п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х числу, характеризующему градации яркости, — о режиме работы видео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бы оценить линейность растра по вертикали н создать на экране в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мь полос, необходимо напряжение ступенчатой формы с восемью ступен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 и с. частотой повторения около 50 Гц. При этом, если режим работы виде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* усилителя нормальный, на экране появятся восемь горизонтальных полос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! личной яркости. Чтобы получить на экране вертикальные полосы с тем же ч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ом градаций, необходимо   ступенчатое напряжение с частотой   повтор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бо спираль, окружающую катод. Электроны, излучаемые катодом, могут св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дно проходить сквозь сетку (если «а ней нет напряжения) и двигаться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ону анода, находящегося под положительным относительно катода пот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алом. Не вдаваясь в подробности, скажем, что подобно ламповому три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ет я полупроводниковый триод — транзистор. У него также три элек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да, в определенной степени аналогичных электродам лампового триода: эми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—катоду, база — сетке в коллектор—аноду. Лампа и транзистор, пост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ные в соответствующий режим, обладают усилительными свойствами.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,0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показаны усилительные каскады на лампе в транзисторе. Резист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ужен для устойчивой работы каскадов. Если в цепь анода лампы в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ть резистор с достаточно большим сопротивлени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подать на ан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тоянное, положительное по отношению к катоду напряжение, то через ламп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течет поток электронов. Подав на управляющую сетку отрицательное от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ительно катода напряжение, можно уменьшить количество электронов в поток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. е. уменьшить анодный ток лампы. При достаточно большом отрицатель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и на сетке анодный ток вообще прекратится. Отсюда можно сдел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вод, что, изменяя напряжение на управляющей сетке, можно регулир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нодный ток лампы. Поскольку сетка расположена в непосредственной б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сти от катода, воздействие ее на анодный ток оказывается весьма знач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ным. Поэтому даже небольшое изменение напряжения на сетке вызыв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чительное изменение анодного тока три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2124000" y="1341360"/>
            <a:ext cx="5216400" cy="3611520"/>
            <a:chOff x="2124000" y="1341360"/>
            <a:chExt cx="5216400" cy="3611520"/>
          </a:xfrm>
        </p:grpSpPr>
        <p:pic>
          <p:nvPicPr>
            <p:cNvPr id="38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142000" y="1341360"/>
              <a:ext cx="4926240" cy="27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581160" y="1783800"/>
              <a:ext cx="671040" cy="2271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Garamond"/>
                </a:rPr>
                <a:t>■</a:t>
              </a:r>
              <a:r>
                <a:rPr b="0" i="1" lang="en-US" sz="900" spc="-1" strike="noStrike">
                  <a:solidFill>
                    <a:srgbClr val="ffffff"/>
                  </a:solidFill>
                  <a:latin typeface="Garamond"/>
                </a:rPr>
                <a:t>300</a:t>
              </a:r>
              <a:r>
                <a:rPr b="1" i="1" lang="en-US" sz="800" spc="-1" strike="noStrike">
                  <a:solidFill>
                    <a:srgbClr val="ffffff"/>
                  </a:solidFill>
                  <a:latin typeface="Book Antiqua"/>
                </a:rPr>
                <a:t>в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89200" y="3966480"/>
              <a:ext cx="3045240" cy="2325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ffffff"/>
                  </a:solidFill>
                  <a:latin typeface="Garamond"/>
                </a:rPr>
                <a:t>56000,25мк 12000,062ш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24000" y="4378320"/>
              <a:ext cx="5216400" cy="5745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48. Принципиальная схем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генератора ступенчатого напряже-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5 000 Гц. Меньшее число градаций яркости на экране при восьми ступеня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дет говорить о том, что режим работы видеоусилителя установлен неверно. Пол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ы будут неподвижны, если частоты кад- ровой или строчной развертки совпада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частотой ступенчатого напряжения, н ис-правно устройство синхроннзацин. Чтоб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еспечить это, необходимо подстроить ре-гуляторы частоты кадров или строк. То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 результат получается при изменении частоты повторения ступенчатого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нципиальная схема генератора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сту-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енчатого напряжени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казана иа рис. 48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нцип  работы   генератора   заключа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ледующем. После включения напряж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я питания конденсатор С4 начинает заряжаться через 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Пр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этом тран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закрыты и на коллекторе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я практически н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открывается, когда напряжение иа конденсаторе С4 (т. е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коллекторе тран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) достигает примерно 20 В. В этот момен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 С4 разрядится через промежуток эмиттер — коллектор транзис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через транзистор пройдет ток и потенциал коллектора транзистора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увеличится на какое-то значение. Напряжение на конденсаторе С2 возр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ет почти мгновенно, после чего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вновь окажется закрытым, 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 С4 начнет заряжаться через 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Этот процесс б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 продолжаться до тех пор, пока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 ие откроется. При э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. С4 снова разрядится через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, а напряжение на кол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ктор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конденсаторе С2 вновь возрастет.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находи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закрытом состоянии до тех пор, пока напряжение на конденсаторе С2, сту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нчато возрастая, ие достигнет значения, прн котором откроется транзистор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. Прн этом конденсатор С2 разрядится через тран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и устройст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рнется в исходное состояние. Таким образом, на конденсаторе С2 периодич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ки появляется напряжение ступенчатой формы. Частота повторения эт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зависит от номиналов конденсатора С4 (С5) и рези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 число ступеней — от соотношения между емкостями конденсаторов С2 и С4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СЗ и С5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вырабатывает напряжение ступенчатой формы с частотой п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ения около 15 кГц, а при замкнутых контактах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с ч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той 50 Гц. Эти частоты можно в некоторых пределах изменять с помощ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. Амплитуду выходного напряжения можно регулировать рез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необходим для получения выходного напряжения,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вышающего 2,5... 3 В, и совместно с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 является сопротив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м нагрузки генератора. С уменьшением этого сопротивления ухудшается 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йность ступенчатого напряжения. Для питания генератора используют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е —300 В (гнездо XII) от осциллографа. В генераторе можно использ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ь только диффузионные транзисторы П401—П403, П415, П416 и т. д. Сп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ально отбирать транзисторы ие надо. Генератор собирают на плате из кар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иа, прикрепляемой к панели (как ГЗЧ, ГВЧ и т. д.) и устанавливают в 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м подходящем корпус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 с генератором сводится к следующему. К управляющей сетке ла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ы видеоусилителя или ко входу транзисторного видеоусилителя подводят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е с движка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 Регулируя его, добиваются появлени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е телевизора движущихся полос. Далее подстраивают частоту строк ил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[кадров до тех пор, пока полосы не примут вертикального или горизонталь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положения. С помощью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можно изменять число полос на экра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авнивая ширину полос на противоположных сторонах экрана, оцени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линейность разверток, а изменяя режим работы видеоусилителя, прове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т, какое число градаций яркости обеспечивает видеоусилитель. Генератор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ебляет ток 3 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6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ПРАВОЧНЫЕ СВЕД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практике начинающего радиолюбителя, занимающегося разрабо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й «своих» устройств, конструированием радиоэлектронной аппаратуры, час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зникает необходимость в различного рода расчетах. Здесь приводятся кра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ие сведения справочного характера, которые можно использовать при р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та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диницы электрических измерений. В практической радиотехнике наибо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шее применение имеют следующие основные единицы измерений: напряжения —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льт, силы тока — ампер, мощности — ватт, сопротивления — ом, емкости —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арада, индуктивности — генри, частоты — герц. Некоторые из этих единиц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гут оказаться слишком большими. Например, одна фарада в десятки тысяч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з превышает емкость самого большого по емкости конденсатора, примен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мого в радиоустройствах. Ясно, что обозначением номиналов деталей в ф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дах нецелесообразно, поскольку оно окажется чрезмерно громоздким. Стол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льшая единица неудобна и при расчетах, поэтому чаще всего емкость из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яют в единицах в 10е и 1012 раз меньше одной фарады. Вместо единицы 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ы тока — ампера — очень часто также употребляют ее тысячные, а иногд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иллионные доли. С другой стороны, имеются основные единицы, слишком н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льшие для непосредственного использования, например единица сопротивл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я ом, в то время как в бытовой радиоэлектронной аппаратуре большинст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пользуемых резисторов имеют сопротивление в сотни, тысячи, миллионы раз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льше одного ома. Поэтому на практике используют как основные, так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изводные единиц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Напряжение: 1 вольт (В) = 103 милливольт (мВ) = 10* микровольг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(мкВ) = 10-3 киловольт (кВ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В =10-3 В=103  мкВ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в=10-« В=10-3 мВ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кВ == 103    В.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^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Сила тока: 1 ампер (А) = 103 миллиампер (мА)=^=10* микроампер (мкА);.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3 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3 мкА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* А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 10~3 мА.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91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ощность:   1 ватт (Вт) = 103 милливатт (мВт) =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0е 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икроватт (мкВт);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Вт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3 Вт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3 мкВт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Вт       =10-в Вт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Ю-3 мВт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Сопротивление: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м (Ом) = Ю-3 килоом (кОм)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-6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егаом (мОм);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кОм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3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м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-3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Ом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Ом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3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кОм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6 Ом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Емкость: 1 фарада (Ф) =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06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икрофарад (&lt;мкФ) = 1012 пнкофарад (пФ);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Ф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6 пФ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в Ф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пФ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"12 Ф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"6 мкФ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Индуктивность: 1 генри (Гн) = 103 миллигенри (мГн) =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106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микрогенри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(мкГн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Гн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-3 Гн   =103 мкГн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кГн       =10-в Гн   =10-3 мГн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Частота: 1 герц (Гц) = 10-3 килогерц (кГи) = 10-в мегагерц (МГц) = 10-"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гигагерц (ГГц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кГц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103 Гц     =10-3 МГц=10-в ГГц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МГц        = 10е Гц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=103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кГц=10-3 ГГц;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ГГц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 10в кГц.   =109 Гц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На принципиальных схемах бытовой радиоаппаратуры в целях упрощения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приняты следующие обозначения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для резисторов от 0 до 999 Ом — без указания единицы измерения (на-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пример, 750 вместо 750 Ом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т 1000 до 999999 Ом — в килоомах с одной буквой К (вместо 120000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м —120 К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т 1000 000 до 999 000 000 — в мегаомах с одной буквой М (вместо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1 000 000 Ом — 1 М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для конденсаторов от 0 до 9999 пФ — в пикофарадах без указания едини-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цы (вместо 510 пФ — 510);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от 0,01 до "9999 мкФ — в микрофарадах с буквами мк (вместо 5 мкФ —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55 мк, вместо 0,01 мкФ — 0,01 мк).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Частота, длина волны. У радиолюбителя может возникнуть необходимость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в определении частоты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сигнала по известной длине волны % или наоборот.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Зависимость между этими величинами связана формулой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,=300 000/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или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=300 ОООА,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де длина вол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казывается в метрах, а частот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в килогерц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кон Ома. С помощью закона Ома, выражающегося формула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д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сила тока 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напряжение (В)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сопротивление, имеющее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цепи (Ом), определяют различные электрические величины в радиоустрой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в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Имеются источник напряжения постоянного тока 100 В и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ь, для которого напряжение питания ие должно превышать 70 В. То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требляемый усилителем, 0,1 А. Требуется определить сопротивление гасящ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 резистора, который нужно установить между источником и усилителем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ения усилителя требуемым напряжением. Чтобы погасить излишек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я 30 В, необходим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30/0,1=300 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В цепи эмиттера транзистора второго каскада усилителя мощ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и звуковой частоты установлен резистор сопротивлением 1000 Ом. Па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 на резисторе, судя по принципиальной схеме, должно составля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,5 В. Однако проведенная из-за искажений звука проверка усилителя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ала, что напряжение на упомянутом резисторе повышено до 7 В. На ос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 имеющихся данных подсчитан ток эмиттера: 1 = 7-1000/1000= 7 мА, о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вшийся чрезмерным и свидетельствующий о возможном выходе из строя д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транзистора. В последней формуле выражение в числителе умножае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0, чтобы получить результат в миллиампер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ическая мощность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(ватты, амперы, вольты).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ре 1 найдено значение гасящего резистора. Необходимо определить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яемую на нем мощность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1 • 10_2-3-102=3 Вт. Следовательно, 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 должен быть рассчитан на мощность не менее 3 В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. Динамические головки имеют паспортное значение номиналь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щности 10 В. Чтобы оценить возможность их использования в собираем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илителе, нужно определить напряжение звуковой частоты, подводимое к е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вуковой катушке сопротивлением 10 Ом для получения номинальной мощ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и. При указанных данных напряжение должно быт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]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P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10 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кон Ома справедлив и для цепей переменного тока, содержащих рез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ры, конденсаторы, катушки. Однако если сопротивление резистора практ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ски не зависит от частоты проходящего через него тока, то, как известно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противлсние конденсатора или катушки индуктивности в значительной ст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ни зависит от частоты тока. Для определения емкостного сопротивления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"еисатора Хс и индуктивного сопротивления катушки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Хь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частот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льзуют следующие формулы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6-105/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) (Ом, Гц, мкФ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6-!10»/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) (Ом, Гц, пФ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6,3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(Ом, Гц, Гн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. В примере 1 определялось сопротивление гасящего резистор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ключаемого в цепь питания усилителя с целью снижения его напряжения п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ния. На резисторе с сопротивлением 300 Ом происходит падение напряж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тоянного тока (для того ои и включен). Между точкой присоединения 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истора к усилителю и массой должен быть включен блокирующий конденс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, иначе на резисторе кроме падения напряжения постоянного тока произой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 падение напряжения звуковой частоты. Это приведет к нестабильной раб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 усилителя, снижению уровня сигнала иа его выходе и т. п. Блокирующи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денсатор должен иметь малое сопротивление на наинизшей частоте полос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пускания усилителя. Допустим, что нижняя граница частотной характер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ики усилителя находится вблизи частоты 50 Гц, а сопротивление конденс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а на этой частоте примем равным 10 Ом. Подсчитаем емкость конденсатор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=1,6-105/(50-'10)~340 мкФ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ученное значение не отличается от емкости конденсаторов, использу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1476360" y="1557360"/>
            <a:ext cx="6192360" cy="3526920"/>
            <a:chOff x="1476360" y="1557360"/>
            <a:chExt cx="6192360" cy="3526920"/>
          </a:xfrm>
        </p:grpSpPr>
        <p:pic>
          <p:nvPicPr>
            <p:cNvPr id="4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550960" y="1557360"/>
              <a:ext cx="51177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476360" y="4360680"/>
              <a:ext cx="32878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" spc="-1" strike="noStrike">
                  <a:solidFill>
                    <a:srgbClr val="ffffff"/>
                  </a:solidFill>
                  <a:latin typeface="Garamond"/>
                </a:rPr>
                <a:t>1кГц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4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ис. 49. Характеристика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GR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-фильтр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34640" y="4340160"/>
              <a:ext cx="4194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87600" y="4307040"/>
              <a:ext cx="5709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я 1 Ом потребовалась бы емкость 3400 мкФ. Подобные конденс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ы с рабочим напряжением 100 В достаточно дороги и громозд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. Определим частотную характеристику цепи (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а)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авляющей собой фильтр верхних частот пр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0 В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10 кОм, и С=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0,005 мкФ. Будем считать, что в указанном сопротивлении учтено и входно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е последующей цепи. Из частотной характеристики фильтра дол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но быть определено, как изменяется напряжение иа выходе цепн 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su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увеличении частоты и при неизменных значениях напряжения иа вход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сопротивл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емкости конденсатора С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жняя граница частотной характеристики начинается с частоты срез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0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которой зададимс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bi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0,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UB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оследнее условие может быть соб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о, есл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«0,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отсюд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O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т. е. Хс«'Ю0 кОм. Подсчитаем час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у срез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1,6-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OV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) = ('1,6- Ю^/ОКР-О.ООб)«600 Гц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алее подсчитаем частоты пр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h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:=0,2 0,5 и 0,9. Этим отношения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дут соответствовать значения Хс«40, 10, 1 кОм, отсюда частоты </a:t>
            </a: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foz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***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«800 Гц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05« 3000 Гц и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«3 МГц. По результатам расчета строят графи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рис. 49), из которого можно [заключить, что фильтр верхних частот (цеп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а)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пуская частоты выш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достаточно эффективно подавля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лее низкие часто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имер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6. Динамические головки с сопротивлением звуковой катушк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 Ом соединяют с выходом двухтактного мощного транзисторного усилителя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го напряжение питания 12 В. Необходимо определить емкость разделитель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о конденсатора. Нижняя граница полосы воспроизводимых частот 50 Гц.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кольку конденсатор включается последовательно с катушкой динамическ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оловки, то для исключения заметных потерь сигнала на емкостном сопротивл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и конденсатора и связанного с этим уменьшения мощности звука должно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блюдено неравенство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гд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H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противление звуковой катуш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мкость конденсатора буде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=1,6-'105/(50-[1)«3400 м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бочее напряжение конденсатора должно быть не менее 15 В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араллельное и последовательное соединение резисторов, катушек нндук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внести, конденсаторов. При параллельном соединении резисторов, катуше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ндуктивности, конденсаторов результирующее значение 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ли С) подсч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ывают по формулам (в одинаковых единицах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+ 1/: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+ ..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!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+ 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1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+..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€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€,+02+03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параллельном соединении двух  элементов результирующее знач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де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=RlR2/(Ri+R2);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Л</a:t>
            </a: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=(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0=101+02-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этом случае сопротивл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ли индуктивност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будут иметь меньш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начение, чем у наименьшего из па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последовательном соединении элементов результирующее значение п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читывают по формула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+...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+..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ли для двух конденса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i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/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+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. В после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м случае результирующая емкость будет меньше наименьшей из соединенных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ледовательн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чет трансформатора блока питания. Приведен упрощенный расчет тран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орматора блока питания любительских радиоэлектронных устройств с пот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ляемой мощностью до 100... 150 Вт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ная мощность трансформатор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=К(1Л+ил1л) Вт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Глава   1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КРАТКИЕ СВЕДЕНИЯ</a:t>
            </a:r>
            <a:br>
              <a:rPr sz="2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ИЗ ЭЛЕКТРОТЕХНИКИ И РАДИОТЕХНИКИ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Любое радиоэлектронное устройство — от карманного радиоприем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ника до сложнейшего радиотехнического комплекса — собирается из электрон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ных приборов, резисторов, конденсаторов, катушек индуктивности и т. п. По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этому знакомство с радиоэлектроникой начинаем с этих радиодеталей, с осо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бенностей их работы и использования. Применение радиоэлементов в элект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рических цепях, в свою очередь, требует определенных знаний йз электро- и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радиотехники. Здесь приводятся сведения, необходимые для начинающих радио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любителей, приступающих к практическим работам в области радиоэлектрони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ки, в первую очередь в части, касающейся бытовой радиоаппаратуры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Переменный ток. Заряженная аккумуляторная батарея, извлеченная из ав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томобиля, имеет напряжение около 12 В. Это напряжение на клеммах бата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реи постоянно в течение длительного времени и может уменьшаться лишь из-за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саморазрядки батареи. Если изобразить в виде графика зависимость напряже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ния батареи от времени (рис. 1), отложив по вертикальной оси значение на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пряжения ('12 В), а по горизонтальной — время в подходящих единицах (се-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кунды, часы), то получится непрерывная линия, параллельная горизонтальной</a:t>
            </a:r>
            <a:br>
              <a:rPr sz="1700"/>
            </a:br>
            <a:r>
              <a:rPr b="1" lang="ru-RU" sz="1700" spc="-1" strike="noStrike">
                <a:solidFill>
                  <a:srgbClr val="ffffff"/>
                </a:solidFill>
                <a:latin typeface="Garamond"/>
              </a:rPr>
              <a:t>оси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Назовем промежуток сетка — катод входом, а аиод — катод выходом кас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када. Если на вход подать переменное напряжение какого-то сигнала, то анод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ный ток начнет изменяться в такт с изменением переменного напряжения на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сетке. Изменения анодного тока создадут на аноде лампы напряжение, изме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няющееся по тому же закону, что и входное напряжение. Это напряжение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будет выходным напряжением каскада. Таким образом, подав на вход напря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жение сигнала, при соответствующем выборе сопротивления нагрузки мы по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лучим на выходе каскада усиленное выходное напряжение сигнала. Усилитель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ная способность каскада оценивается коэффициентом усиления, показывающим,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во сколько раз выходное напряжение больше входного. Например, коэффици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ент усиления одного каскада на вакуумном триоде достигает 50... 70. Тран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зистор в усилителе на рис. </a:t>
            </a: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,г ведет себя так же, как вакуумный триод. Хотя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механизм образования токов внутри транзистора значительно отличается от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действующего в лампе, внешне между каскадами иа транзисторе н лампе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много общего. Назовем промежуток база — эмиттер входом каскада иа тран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Garamond"/>
              </a:rPr>
              <a:t>зисторе, а коллектор — эмнттер — выходом. Если на вход транзистора подать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де К — коэффициент, учитывающий потери при выпрямлении переменного 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 и в сердечнике трансформатора;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напряжение постоянного тока на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де выпрямителя (В); I — сила выпрямленного тока (А); ил, 1л —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|иие и ток накала (В, А), потребляемый радиолампами (для лампового у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[ ройств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чение сердечника (кв.см)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~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для получения 1 В при данном сечении сердечника: Н=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50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обмотки с напряжени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метр провода (мм обмотки, по которой протекает ток 1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8|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^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ример 7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усилителя,  потребляющего  при напряжени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24 В (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стовой схеме выпрямителя) ток 1 А, необходим трансформатор питания. С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вое напряжение 220 Ё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яем полную мощность трансформатора (примем К== 1,3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=1,3-24-1 «36 Вт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чение сердечник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|/"35«6 кв.см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на вольт Н=50/6«8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сетевой обмот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=8-220= 176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в сетевой обмотк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0,2 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метр провода сетевой обмот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8 ]/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36 м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сло витков вторичной обмот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8-24=192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метр провод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 ]/ 1=0,8 м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ив намоточные данные, необходимо подобрать тип сердечника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ответствующими размерами окна, позволяющими разместить в нем обмот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изолирующими прокладками. Для этого нужно подсчитать плотность каж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мотки, т. е. число витков, приходящееся на 1 кв. см намотки виток к вит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учетом прокладок, и сопоставить ее с площадью ок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большое переменное напряжение, то оно вызовет изменение коллектор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а и соответственно напряжения на выходе каска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жду лампой и транзистором имеются, однако, существенные различ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ключающие возможность непосредственной замены лампы транзистором 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оборот. Одно из главных различий состоит в сопротивлениях входа и вы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 каскадов. Строго говоря, эти сопротивления зависят от схемы включ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ы или транзистора. Упрощенно наличие сопротивлений можно объясн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едующим образом. В лампе сетку от катода отделяет вакуум, и лампа обы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работает в режиме, когда ток в цепи сетки отсутствует. В этом случа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ное сопротивление может составлять миллионы ом. Поскольку между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дом и анодом течет ток, выходное сопротивление лампового каскада 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, чем входное. В транзисторе входное сопротивление (оля схемы рис. 4,г)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вышает 500... 1000 Ом, а выходное сопротивление составляет 5... 10 тыс. 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к сказывается то или иное сопротивление на работе каскада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мы захотим собрать многокаскадный усилитель звуковой частоты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мпах и с этой целью присоединим к выходу каскада, показанного иа ри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е, второй такой же, то это практически никак ие отразится на показателя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вого каскада: его коэффициент усиления и выходное напряжение остану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почти неизменными. Если с той же целью присоединить к выходу тран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ного каскада вход следующего, подобного первому, то выходно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первого каскада снизится в 5... 10 раз из-за малого входного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я второго каскада. В данном случае к относительно большому выход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противлению присоединяется почти в 10 раз меньшее входное сопроти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дующего каскада. Создается ситуация, сравнимая с коротким замыка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 выходного сопротивления и, следовательно, выходного напряжения пер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скада. По этой причине коэффициент усиления первого каскааа резко с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тся. Отсюда следует, что при разработке многокаскадного транзистор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теля необходимо учитывать, что входные и выходные сопротивления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лжны сильно отличаться друг от друга. В этом случае потери сигнала б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ут наименьши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е большее распространение в бытовой радиоэлектронной аппаратуре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учают микросхемы, позволяющие в одной детали объемом значительно 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 кубического сантиметра совместить, например, функции многокаскад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теля звуковой и высокой частот, преобразователя частоты н детектор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микросхемах достигается большая степень объединения (интеграции) ак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х (транзисторы) и пассивных 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 элементов. Степень интеграции, сост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вшая в первых разработках единицы и десятки, достигает в новейших ми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схемах сотеи и тысяч элементов в одном кристалле. Микросхемы все ш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ользуются н в радиолюбительских конструкция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ы, конденсаторы, катушки. В любом радиоэлектронном устройств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ользуется множество резисторов, конденсаторов, катушек. Соединенные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личных сочетаниях, эти детали образуют элементарные электрические цеп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определенными свойствами. Ясно, что число подобных цепей и выполняем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и функций может быть весьма велико. Чтобы лучше понять, как действ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и цепи в реальных условиях, т. е. когда на них подаются напряжения п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янного и переменного тока, посмотрим, как ведет себя под иапряж'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ая из этих деталей. Для этого используем параметр, в равной степе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арактеризующий резисторы, конденсаторы, катушки, а именно сопротивл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казываемое соответствующей деталью постоянному и переменному ток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меется понятие «активное» сопротивление (обычно обозначается бук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). Под ним понимается, например, сопротивление провода, из которого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тана катушка индуктивност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сопротивление провода высокочастотной ц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 н д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ктивное сопротивление не зависит от частоты переменного тока (прн 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ишком высоких частотах). Поскольку последнее свойство присуще также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ам, то можно считать, что г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инонимы. Сопротивление, оказы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ое току конденсатором, называют емкостным сопротивлением Хс,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 катушки — индуктивным сопротивлением Хь. Емкостное и индуктив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противления проявляют себя на постоянном и переменном тЪке по-разному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оме того, они изменяют свои значения при изменении частоты перем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а. Поведение конденсатора и катушкн в цепях с током однозначно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зуется соответствующими формулами (см. гл. 6). Чем больше часто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, подведенного к конденсатору, и чем больше его емкость, т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ньшее сопротивление току он оказывает. Чем меньше частота тока н е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сть, тем большим сопротивлением обладает конденсатор. А в том случа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гда, частота равна нулю, т. е. при постоянном токе, сопротивление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а бесконечно велико. Индуктивное сопротивление проявляется по-друг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у, катушка ведет себя прямо противоположно конденсатору: чем больше ч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та тока и индуктивность, тем большее сопротивление току оказывает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шка. При постоянном токе, когда частота равна нулю, катушка представл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а бы нулевое сопротивление, не будь у нее активного сопротивления пров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 г, т. е. для постоянного тока сопротивление катушкн равно г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ссмотрим, как используются свойства указанных деталей на практик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же говорилось о выпрямлении переменного тока с помощью диода. Перем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й ток, проходя через диод (рис. 5), становится постоянным, т. е. током, т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щим только в одном направлении. Но напряжение на выходе диода —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ки 1 — не является строго постоянным: иа него наложена переменная с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вляющая пульсаций. Такое напряжение называют пульсирующим. Если 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ходу выпрямителя присоединить конденсатор С1 достаточно большой емк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и, его сопротивление для пульсаций будет мало и выход выпрямителя дл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менной составляющей окажется замкнутым. В то же время для постоя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го тока конденсатор представляет собой бесконечно большое сопротивл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е. Это значит, что конденсатор на выходе выпрямителя ведет себя в од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 то же время по-разному. Во-первых, он ослабляет пульсации, во-вторых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вышает постоянное напряжение на выходе выпрямителя. Дело в том, чт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гда диод пропускает ток, конденсатор заряжается до максимального з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чения переменного напряжения иа входе выпрямител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' Зарядившись до этого значения в момент включения выпрямителя, ко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енсатор не успеет разрядиться за время между полупернодами выпрямлен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626080" cy="252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050920" y="4365720"/>
          <a:ext cx="5185080" cy="433440"/>
        </p:xfrm>
        <a:graphic>
          <a:graphicData uri="http://schemas.openxmlformats.org/drawingml/2006/table">
            <a:tbl>
              <a:tblPr/>
              <a:tblGrid>
                <a:gridCol w="5185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. 5. Диод как выпрям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го напряжения. Этому способствует его большая емкость. Небольшие пуль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ации, остающиеся на конденсаторе С1, можно устранить почти полностью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я этого используется катушка индуктивност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называемая дросселем 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ладающая уже известным нам свойством оказывать сопротивление перем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му току н пропускать через себя постоянный ток. Дроссель включается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цепь выхода выпрямителя последовательно. Потребляемый нагрузкой ток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оходит через дроссель, причем для оставшейся на конденсаторе С1 перем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й составляющей он становится преградой, без помех пропуская постоя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й ток. Конденсатор С2 окончательно сглаживает пульсации, и на нагрузк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ступает практически напряжение постоянного тока. Следовательно, мож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ключить, что использование комбинации конденсаторов и дросселя в выпря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ителе помогло преобразовать напряжение пульсирующего тока в напряж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е постоянного. Остается добавить, что конденсатор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С2 н дроссель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оединенные, как показано на рис. 5, составили так называемый сглаживаю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щий фильтр, используемый в выпрямителях радноустройст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смотрим теперь на примере лампового каскада (рис. 6), какие фун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и исполняют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конденсаторы С в усилителе звуковой частот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 как называют этн детали в зависимости от выполняемых функци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нс. 6 приведена схема второго каскада многокаскадного усилител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работы в заданном режиме лампа должна иметь на своих электрод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личные постоянные напряжения. Для питания анодной цепи нужно, к п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у, 200 В, для экранной сеткн 50 В, для управляющей сетки 5 В (о пе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нном напряжении накала в данном случае можно не говорить). Ясно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нтання электродов указанными напряжениями применять отдельные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ники, будь то выпрямители илн батареи, неоправданно. Гораздо прощ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пользуя напряжение от одного источника, получать необходимое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с помощью резисторов и подавать иа тот нли иной электрод. Допусти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 напряжение для пнтання каскада (см. рис. 6) больше требуемого.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снижения используетс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на котором падает излишек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. Принято называть этот резистор гасящим. Гасящим также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цепи экранной сет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681440" cy="4174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07960" y="515736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 6. Усилитель каска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многокаскадных усилителях гасящие резисторы, установленные в каж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м каскаде, могут выполнять одновременно роль резисторов, препятствующи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желательным связям между каскадвм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 цепям питания. При наличии так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вязи стабильность работы каскадов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ушается, происходит самовозб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силителя. Резисторы, установленные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анодных цепях, н соотвеюгвующие ко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енсаторы предотвращают проннкновеч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цепи питания колебаний, могущих вы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вать самовозбуждение. В этом случа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ы называют резисторами раз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яз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грузкой каскада является резистор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 который так и называется — резистор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грузки.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—резистор утечк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етки.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 является резисторо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течки для лампы следующег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 «ас дома в электрической сети действует напряжение переменного ток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торый «течет» по проводам какое-то время в одном направлении н такое ж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ремя — в обратном. Причем этот процесс происходит не скачками, а по 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усоидальному закону -я с определенной частотой ,(см. рис. 1}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ой переменного тока называется число полных колебаний этого ток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вершаемых за 1 с. Единица измерения частоты — герц (Гц); 1 Гц — это од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лебание в секунду. Время одного полного колебания называется периодом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говорят, что частота переменного тока в сети составляет 50 Гц, то э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значает, что 50 раз в секунду его значение изменяется от максимума до м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мума и обратно. Один период колебания продолжается 1/50 = 0,02 с, и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0 мс. На рнс. 1 показан один период напряжения переменного тока частот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0 ГЦ. Напряжение, начинаясь с нуля, достигает через 5 мс наибольшего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ожительного значения, затем еще через 5 мс спадает до нуля, еще через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 мс принимает наибольшее отрицательное значение и, наконец, еще через 5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ли 20 мс после начала вновь обращается в нуль. Из рисунка, однако, не ясно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акое конкретно напряжение имеется в сети. Если измерить его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лучим знач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имевшееся в сети именно в этот момент. Это случайно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начение называется мгновенным значением напряжения. Если измерение 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водить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5 мс, то получим максимальное положительное знач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я.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15 мс будет наибольшее отрицательное значение на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ключенном в цепь катод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при прохождении анодного тока во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кает падение постоянного напряжения причем его + будет на катоде, а —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й шине. Поскольку резистор утеч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соединен с общей шнной, то пот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ал сеткн по отношению к катоду окажется отрицательным. Так на сетке пол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ется отрицательное напряжение, необходимое для работы каскада в требуе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жиме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называют резистором смещ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сигнала поступает на управляющую сетку лампы через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 С1. Усиленный сигнал снимается с анода и через конденсатор С5 п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упает на выход каскада. Конденсатор О должен пропустить перем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пряженне сигнала н не допускать попадания на сетку постоянного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 из цепн питания предыдущего каскада. Точно так же конденсатор С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лжен пропустить напряжение сигнала к следующему каскаду н исключ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падание на его вход постоянного напряжения нз анодной цепн рассмат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емого каскада. Значит, функции конденсаторов С1 н С5 — отделить пер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 ток от постоянного. Поэтому конденсаторы, исполняющие подобные фун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ии, принято называть разделительны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усилении. сигнала переменный ток, протекая через лампу, создает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е нагрузки усиленное напряжение сигнала. Однако этот ток дол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текать далее через гасящне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н резистор смещ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бы это было так, то на перечисленных резисторах происходило бы 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ие напряжения сигнала, приводящее к ухудшению * частотной характерис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и других параметров усилителя. Чтобы не допустить этого, использ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ы С2 н С4, замыкающие путь сигнала мнмо гасящнх резисторо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, н конденсатор СЗ, являющийся коротким замыканием для сигна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деляющегося на резисторе смещ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Конденсаторы С2—С4 замык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ть токам звуковой частоты,1 как принято говорить, блокируют соответст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щие цепн и называются блокирующи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 приведенных примеров видно, что, используя резисторы и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ы, можно направлять различные токи (постоянный, переменный, импуль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й) по той или иной цепн, разделять их, преобразовывать одни внд тока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ругой н т. п. Рассмотрим наиболее часто используемые цепн при перемен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усть на вх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 (рис. 7,о) подается переменное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Частота этого напряжения изменяется от нуля до весьма б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их значений. По мере увеличения частоты емкостное сопротивление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а Хс начинает уменьшаться, в цепи нарастлет ток н н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вляется напряжение иВых. Начавшись с нуля, оно достигает знач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гда Хс уменьшается до нуля (рис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7,в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ивая 1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меняем местами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 конденсатор С (рис. 7,6). С увеличе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 частоты сопротивление Хс начнет уменьшаться, в цепи потечет то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зывая нарастающее падение напряжения на ре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 соответству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меньшение выходного напряжения. Прн достаточно высокой частоте со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вление Хс и напряжение иВЫх снизятся практически до нуля (рис. 7,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ивая 2).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рассматриваемого вида могут применяться для разли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х целей. Например, цепь на рнс. 7,о может быть использована в качеств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ильтра, пропускающего напряжения с частотами, превышающими так наз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емую граничную частоту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подавляющего напряжения с частотами, мен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ими граничной. Такой фильтр называют фильтром верхних частот. Цеп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нс. 7,6 ведет себя как фильтр ннжинх частот, т. е. фильтр, пропускающ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927000" y="727200"/>
            <a:ext cx="7821720" cy="4573080"/>
            <a:chOff x="927000" y="727200"/>
            <a:chExt cx="7821720" cy="4573080"/>
          </a:xfrm>
        </p:grpSpPr>
        <p:pic>
          <p:nvPicPr>
            <p:cNvPr id="1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36200" y="727200"/>
              <a:ext cx="6448680" cy="31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27000" y="3729240"/>
              <a:ext cx="7821720" cy="1571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>
                <a:lnSpc>
                  <a:spcPct val="14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ffffff"/>
                  </a:solidFill>
                  <a:latin typeface="Garamond"/>
                </a:rPr>
                <a:t>г)</a:t>
              </a:r>
              <a:r>
                <a:rPr b="0" i="1" lang="ru-RU" sz="10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r>
                <a:rPr b="0" i="1" lang="ru-RU" sz="900" spc="-1" strike="noStrike">
                  <a:solidFill>
                    <a:srgbClr val="ffffff"/>
                  </a:solidFill>
                  <a:latin typeface="Garamond"/>
                </a:rPr>
                <a:t>д)</a:t>
              </a:r>
              <a:r>
                <a:rPr b="0" i="1" lang="ru-RU" sz="10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r>
                <a:rPr b="0" i="1" lang="ru-RU" sz="900" spc="-1" strike="noStrike">
                  <a:solidFill>
                    <a:srgbClr val="ffffff"/>
                  </a:solidFill>
                  <a:latin typeface="Garamond"/>
                </a:rPr>
                <a:t>е)        </a:t>
              </a:r>
              <a:r>
                <a:rPr b="0" i="1" lang="en-US" sz="900" spc="-1" strike="noStrike">
                  <a:solidFill>
                    <a:srgbClr val="ffffff"/>
                  </a:solidFill>
                  <a:latin typeface="Garamond"/>
                </a:rPr>
                <a:t>f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Рис. 7. Цепи 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о — дифференцирующая; 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— интегрирующая; 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Garamond"/>
                </a:rPr>
                <a:t>в 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— частотные характеристики днфференциру.</a:t>
              </a:r>
              <a:br>
                <a:rPr sz="2000"/>
              </a:b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ющей (1) и интегрирующей (2) цепей; 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Garamond"/>
                </a:rPr>
                <a:t>г. д 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— последовательные 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 цепн; е — частотные</a:t>
              </a:r>
              <a:br>
                <a:rPr sz="2000"/>
              </a:b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характеристики последовательных 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 цеп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с частотами меньшими, чем граничная. Граничную частоту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ывают также частотой среза фильт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зависимости от значений элемент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и частота среза изменя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ту илн другую сторон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казанная на рнс. 7,г цеп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зменяет свое сопротивление о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тоянном токе до нуля прн достаточно высоких частотах, так как резисто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шунтируется сопротивлением емкости, приближающимся к нулю с рос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ы. Соответственно этому зависимость напряжения иВых от частоты в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напря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будет подобна показанной н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е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кривая 1), из к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рой видно, что при нулевой частоте напряжение на выходе будет иметь к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е-то значение. Цепь, изображенная н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д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н увеличении частоты вед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ебя несколько иначе. Вблизи нулевой частоты конденсатор С представляет 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ой бесконечное сопротивление и тока в цепн нет. При достаточно большой ч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те сопротивление Хс становится близким к нулю, н тогда сопротивление ц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и определяется сопротивлением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оэтому соответствующая з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исимость (рнс. 7,е, кривая 2) начинается с нулевого значения выход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. Прн высоких частотах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bI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и н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казыв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меньше, чем у цепн н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г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кольку часть напряжения теряется и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исторе н не достигает значения входного напряжения при любых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а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спользуют для подъема частотной характеристики в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зких и высоких частот, в цепях обратной связи усилителей напряж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вуковой частоты. Их применяют в качестве частотных фильтров, а для п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шения эффективности работы фильтров соответствующие цепн соединя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ледовательно, при этом образуются многозвенные фильт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усть на вход цепи подается переменное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x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рнс. 8,о). Частота напряжения изменяется от нуля до весьма больших знач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й. Прн нулевой частоте сопротивление Хс бесконечно велико, н поэтому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на выходе цепи иВЫх равно нулю. С повышением частоты уменьш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емкостное Хс и повышается индуктивное сопротивление </a:t>
            </a:r>
            <a:r>
              <a:rPr b="1" i="1" lang="en-US" sz="1600" spc="-1" strike="noStrike">
                <a:solidFill>
                  <a:srgbClr val="ffffff"/>
                </a:solidFill>
                <a:latin typeface="Garamond"/>
              </a:rPr>
              <a:t>Xl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вых растет и становится приблизительно равным    напряжению иа    вход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971640" y="476280"/>
            <a:ext cx="6982920" cy="5543280"/>
            <a:chOff x="971640" y="476280"/>
            <a:chExt cx="6982920" cy="5543280"/>
          </a:xfrm>
        </p:grpSpPr>
        <p:pic>
          <p:nvPicPr>
            <p:cNvPr id="1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77680" y="476280"/>
              <a:ext cx="617688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971640" y="5362200"/>
              <a:ext cx="5249880" cy="657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ис. 8. Цепи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Garamond"/>
                </a:rPr>
                <a:t>а. б, г, д 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—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 цепи;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Garamond"/>
                </a:rPr>
                <a:t>в, е 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— частотные характеристики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 цепе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рис. 8,е, кривая 1). Цеп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(рнс. 8,6) ведет себя иначе. При нулевой 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е иВых«иВх, так как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Хь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кже равно нулю (пренебрегаем активным 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тивлением провода), а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Хс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еет наибольшее значение. С ростом частот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иВЫх падает (рис. 8,в кривая 2). Кривые вида 1 и 2 получаю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 только при достаточно низких активных сопротивлениях нагрузки, подк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нных к выходам цепей. Если эти сопротивления велики, то в случаях ког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, обе цепи приобретают свойства резонансных контуров, проявл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щиеся в том, что на определенной, так называемой резонансной частот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выходное напряжение резко возрастает '(кривые 3 н 4 для цепей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8а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ответственно), превышая входное иногда в десятки н сотни раз, в зави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сти от качества используемых конденсатора и катушки индуктивност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, например, катушка намотана из провода с большим активным сопроти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нием, то иа нем произойдет потеря энергии н повышение выход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будет ие столь значительным. То же случится, если в конденсатор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пользован диэлектрик, вызывающий потерн энерги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и, подобные изображенным иа 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7,а,б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пользуются в усилителя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щности звуковой частоты в качестве разделительных фильтров Для подач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ответствующих сигналов на низкочастотную, среднечастотную или высокоча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тную головку акустического агрегата. Имеются и другие применения эти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ей. Цеп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изображенные на рис. 8,гД представляют собой паралле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й н последовательный колебательные контуры. Входное напряжение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а контура поступает через разделительные конденсаторы Ср. Будем сч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ть, что эти конденсаторы не влияют иа процессы в контурах. Рассмотри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тур на рис. 8,г. При нулевой частоте сопротивления Хг^О, Хс = оо н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е иВЫх = 0. С увеличением частоты входного напряжения увеличив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сопротивление Хь н одновременно уменьшается сопротивление Хс. В м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т, когда Хь=Хс, на частот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полное сопротивление контура резко во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тает и достигает тысяч и сотен тысяч ом. Выходное напряжение цепи з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ительно превысит входное. Это показано иа рис. 8,е (кривая 1). Процесс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контуре (цепи) н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8,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исходят по-иному. При нулевой частоте с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отивл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=0,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Хс = °°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этому выходное напряжение сравнимо с в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м. Увеличение частоты входного напряжения приводит в равной степени 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осту сопротивления Хг, и уменьшению сопротивления Хс, выходное напряже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е какое-то время будет находиться примерно на одном уровне. При да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йшем увеличении частоты емкостное и индуктивное сопротивления сравняю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, и в этот момент полное сопротивление контура резко уменьшится. Это п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ойдет при резонансной частот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fo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ри дальнейшем повышении частоты в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напряжения выходное напряжение вновь увеличится до уровня входн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ановив в конТуры (рн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8,г,д)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место постоянных конденсаторов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сатор переменной емкости, можно осуществить перестройку контуров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астоте. Одним из многочисленных применений таких контуров является и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льзование их для отстройки от мешающих сигналов при радиоприеме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в разрыв антенной цепн включить параллельный контур и настроить его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меняя емкость С, на частоту нежелательного сигнала, то этот сигнал, осла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нный в сотни раз, не сможет проникнуть на вход приемника, т. е. помех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дет надежно подавлена. Здесь цепь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спользуется как фнльтр-пробка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ого же эффекта можно достичь, применив перестраиваемый последовате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й контур, если включить его между антенным входом и общей шнной пр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много устройства. Прн частоте контура, равной частоте мешающего сигнал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ход приемника для него будет «закорочен: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Цепн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(рис. 9). С увеличением частоты сопротивление Хх, возраст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 н выходное напряжение уменьшается со скоростью, зависящей от индукти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сти катушки н сопротивления резистора, н при какой-то частоте оказыва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лизким к нулю (рис. 9,е, кривая 1). В цепи (рис. 9,6) под действием пер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ного напряж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i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изменяющейся частотой выходное напряжение ув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чивается, приближаясь к уровню входного. Процесс этот объясняется тем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то прн нулевой частоте сопротивление Хь=0 н напряжение иВых=0. 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величением частоты растет значение Хь и соответственно значение иВ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рис. 9,в, кривая2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цепи н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9,г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нулевой частоте входного напряжения сопротивл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е Хь=0 и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замкнут накоротко, входное напряжение практичес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ез ослабления поступает на выход цепи и напряжен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bix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bi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С увел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нием частоты растет значение Хь, уменьшается напряжение иВых. Прн д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аточно высоких частотах, когд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X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«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индуктивность не влияет на выход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е напряжение, значение которого зависит только от сопротивления рез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ора (рис. 9,е, кривая 1). Цепь на рис.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9,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еет сопротивление, которое уве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869080" cy="2227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76360" y="393372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9.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. б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параллельны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; в —частотные характеристики параллелльны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ей;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г, д —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довательны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е —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ые характеристики последовательных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нчнвается с увеличением частоты входного напряжения. В начальный момен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 выходное напряжение зависит только от сопротивления резистора.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величением частоты к сопротивлению резистора добавляется индуктивное с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тивление катушки и выходное напряжение постепенно спадает до ну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нс. 9,^ кривая 2). Цец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спользуются в качестве фильтров верхних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жних частот, онн применяются в акустических системах для разделения ч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стот и т. 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)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*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10.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рн импульсном напряжен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 — зарядка конденсатора от источника постоянного напряжения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изменение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вых во времени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действие П-нмпульса н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ь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г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зависимость напряжен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вых от длительности П-нмпульса д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и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д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постоянная времен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 больш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; е — действие П-нмпульса и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ь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ж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зависимост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BbI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т длительности П-н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ульса д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смотрим далее поведение цепе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од воздействием импульс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. Однако предварительно исслёДуем действие импульсног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на цеп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— случай, часто встречаемый в телевизионных приемник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осциллографах. На ряс. 10,о показано соедин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конденса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•С н источника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В начальный момент ключ К замкнут. В цеп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текает ток через резистор. В момент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(рнс. 10,6) ключ размыкается н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нается зарядка конденсатора С через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током источника пит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ремя, в течение которого конденсатор зарядится от нуля до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висит от так называемой постоянной времени 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т. е. от произведе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539640" y="0"/>
            <a:ext cx="8209080" cy="5904000"/>
            <a:chOff x="539640" y="0"/>
            <a:chExt cx="8209080" cy="5904000"/>
          </a:xfrm>
        </p:grpSpPr>
        <p:pic>
          <p:nvPicPr>
            <p:cNvPr id="15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932760" y="0"/>
              <a:ext cx="7570080" cy="46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39640" y="4880160"/>
              <a:ext cx="8209080" cy="10238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10. Цепи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прн импульсном напряжении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6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о — зарядка конденсатора от источника постоянного напряжения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изменение напряжения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Ч</a:t>
              </a:r>
              <a:r>
                <a:rPr b="1" lang="ru-RU" sz="1400" spc="-1" strike="noStrike" baseline="-25000">
                  <a:solidFill>
                    <a:srgbClr val="ffffff"/>
                  </a:solidFill>
                  <a:latin typeface="Garamond"/>
                </a:rPr>
                <a:t>вых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во времени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в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действие П-нмпульса на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ь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г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зависимость напряжении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и</a:t>
              </a:r>
              <a:r>
                <a:rPr b="1" lang="ru-RU" sz="1400" spc="-1" strike="noStrike" baseline="-25000">
                  <a:solidFill>
                    <a:srgbClr val="ffffff"/>
                  </a:solidFill>
                  <a:latin typeface="Garamond"/>
                </a:rPr>
                <a:t>вых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от длительности П-нмпульса для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и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д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постоянная времени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н больше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ti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; е — действие П-нмпульса иа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ь; </a:t>
              </a:r>
              <a:r>
                <a:rPr b="1" i="1" lang="ru-RU" sz="1400" spc="-1" strike="noStrike">
                  <a:solidFill>
                    <a:srgbClr val="ffffff"/>
                  </a:solidFill>
                  <a:latin typeface="Garamond"/>
                </a:rPr>
                <a:t>ж 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— зависимость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U</a:t>
              </a:r>
              <a:r>
                <a:rPr b="1" lang="en-US" sz="1400" spc="-1" strike="noStrike" baseline="-25000">
                  <a:solidFill>
                    <a:srgbClr val="ffffff"/>
                  </a:solidFill>
                  <a:latin typeface="Garamond"/>
                </a:rPr>
                <a:t>BbIX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от длительности П-нм-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пульса для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C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 цеп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71640" y="765000"/>
            <a:ext cx="6624000" cy="3888000"/>
            <a:chOff x="971640" y="765000"/>
            <a:chExt cx="6624000" cy="3888000"/>
          </a:xfrm>
        </p:grpSpPr>
        <p:pic>
          <p:nvPicPr>
            <p:cNvPr id="10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464840" y="765000"/>
              <a:ext cx="6130800" cy="34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971640" y="4445640"/>
              <a:ext cx="5887080" cy="207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ис. 1. Электрическое напряж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пустим, что сразу же после окончания зарядки вновь зам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тся ключ. Произойдет быстрая разрядка конденсатора за врем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—13 ч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 близкое к нулю сопротивление ключа. Периодически замыкая н размыка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люч, можно получить на выходе цепн импульсное напряжение. Это нап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жение называется пилообразным. Ясно, что при увеличении сопротивлени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 емкости С время зарядки конденсатора до наибольшего напряжения ув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ичится, и наоборот. Применив вместо ключа переключающее устройство н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е или лампе, можно получить генератор пилообразного напряжения.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сли вместо постоянного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спользовать переменный, то окаж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зможным плавно менять частоту пилообразного напряжения. В генератора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илообразного напряжения телевизоров используют принципы работы такой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смотрим действие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ей при подаче на них импульсног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П-образной формы (П-импульс). Это напряжение подается на вход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цепи (рис. 10,в). До момент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как это видно из рнс. 10,г, напряж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входе цепи отсутствует. Оно появляется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b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сразу же начинае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 зарядка конденсатора через резистор (кривая 1). В зависимости от емк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и конденсатор может зарядиться до амплитудного значения напряжени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-импульса нли не достичь этого значения, если длительность П-нмпульс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ьше времени, необходимого для полной зарядки конденсатора. Чтобы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сатор успевал полностью зарядиться за время действия П-импульса, н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ходимо, чтобы постоянная времен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была меньше длительности П-и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ульса. В момент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 действие импульса прекращается и конденсатор разряж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через внешнюю цепь. Затем появляется новый импульс, и процесс повтор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. При большой постоянной времени цеп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и малой длительности П-н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ульса конденсатор, зарядившись первым импульсом до какого-то напряжения,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 сможет сколь-нибудь значительно разрядиться в промежутках между импу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ами (рис. 10,3). Цепь начнет накапливать заряды под действием коротк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-импульса и поэтому называется накопительной или интегрирующ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з рис.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,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идно, что напряжение иа конденсаторе в процессе накоп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ния оказывается «зазубренным». Чтобы этого не было, к цепи присоедин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ют вторую, иногда н третью однотипные цепн. В этом случае будет получена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вухзвенная или трехзвенная интегрирующая цепь, сглаживающая неровност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я на выходном конденсаторе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ис. 10,е показан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ь, выходное напряжение которой снимается 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а. Подадим на ее вход импульсное напряжение. В момент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! (ри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,ас) напряжение П-импульса распределяется между С 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 почти все оно передается на резистор, так как в этот момент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на конденсаторе равно нулю (конденсатор не может мгновенно зарядиться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тем начинается зарядка конденсатора, напряжение на нем будет возр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ть, а выходое напряжение на резисторе — падать. Если постоянная вре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 цепн мала, конденсатор зарядится быстро и напряжение на резист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стро снизится (рнс.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,ж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ривая 1). При болгшой постоянной времени ц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 спадание напряжения ра резисторе, т. е. выходного напряжения, произой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т медленнее (кривая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2)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момент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действие П-импульса прекратится,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начнет разряжаться через источник импульсного напряжен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оскольку в ■' этом случае направление тока в цепи изменится 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тное, то напряжение на выходе цепн изменит свою полярность, как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ано на рис. 10,й(?. Таким образом, под действием входного напряже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-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П-импульса) прн прохождени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н выходное напряжение принимает 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оконечную форму и будет иметь положительную н отрицательную полярно,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стй. Из-за способности «обострять» П-импульсы цепь иа рис. 10,е назы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фференцирующ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цепях вместо конденсаторов установить катушкн индуктивно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, то образуются 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действующие подобно     цепя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Однако из-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"противоположных свойств конденсаторов и катушек для получения интер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ющей цепи катушка должна быть включена вместо конденсатора С  (рис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,е), а для получения дифференцирующей  —вместо С (рис.  10,е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заключение рассмотрим воздействие импульсного напряжения на. цеп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образующую параллельный колебательный контур (рис. 11,о).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 г является активным сопротивлением (сопротивление обмотки катуш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, соединительных проводов и т. д.). Пока ключ К разомкнут, на контуре 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элементах напряжение отсутствует. Как только ключ будет замкнут,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епн потечет нарастающий во времени ток, конденсатор С начнет заряжать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 напряжения батареи. Разомкнем в этот момент ключ. В отключенном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уре благодаря запасенной в нем электрической энергии (в виде напряжения'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конденсаторе и тока в катушке) возникнут колебания. В этом случае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ойдет ударное возбуждение контура. Из-за потерь на активном сопротивл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 колебания будут затухающими (рис. 11,6). Частота колебаний, как в любо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лебательном контуре, зависит от значени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н С. Если на контур буд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йствовать импульсное П-образное напряжение, то в контуре каждый ра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появлении короткого П-импульса будут возникать колебания, затуха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е к моменту прихода следующего П-импульса. Таким образом, под действ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 П-образного напряжения полный цикл затухающего колебания будет п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яться с частотой импульсов. Следует отметить, что при ударном возбу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ии контура амплитуда первой после отключения источника напряжен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волны колебания может оказаться весьма значительной н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высить напряжение источника.Рнс. 11. 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r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н импульсном напряжен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конту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C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колебания в контуре под воздействием П-импульс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смотренные цеп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спользуются в телевизионных приемниках, Та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тегрирующие и дифференцирующие цепи применяются для выделения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евизноннЪго сигнала синхронизирующих импульсов, управляющих работ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ов кадровой н строчной разверток. Способ ударного возбуждения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туров применяется для повышения эффективности работы генератора строч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971640" y="981000"/>
            <a:ext cx="6697080" cy="4032000"/>
            <a:chOff x="971640" y="981000"/>
            <a:chExt cx="6697080" cy="4032000"/>
          </a:xfrm>
        </p:grpSpPr>
        <p:pic>
          <p:nvPicPr>
            <p:cNvPr id="16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357280" y="981000"/>
              <a:ext cx="5311440" cy="32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971640" y="4448520"/>
              <a:ext cx="6143400" cy="564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Рнс. 11. Цепн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r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 прн импульсном напряжении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53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Garamond"/>
                </a:rPr>
                <a:t>о 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— контур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LCr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; </a:t>
              </a:r>
              <a:r>
                <a:rPr b="1" i="1" lang="ru-RU" sz="16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ru-RU" sz="1600" spc="-1" strike="noStrike">
                  <a:solidFill>
                    <a:srgbClr val="ffffff"/>
                  </a:solidFill>
                  <a:latin typeface="Garamond"/>
                </a:rPr>
                <a:t>— колебания в контуре под воздействием П-импульс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356160" cy="2208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03360" y="4652640"/>
            <a:ext cx="43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12. Делители напря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делитель из резисторов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 —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итель из катушек индуктнв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ей,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емкостный дел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414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192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            б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                    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ители напряжения. Для уменьшения напряжения в определенное ч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 раз используют делнтелн напряжения, составляемые нз резисторов,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ов, катушек индуктивности (рис. 12). Делители нз резисторов Мог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ть как прн постоянном, так н при переменном токе. Делнтелн из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ов и катушек индуктивности используются при переменном токе. Так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ходе телевизоров резистивиые делители применяются для ослабления (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, 100 раз) сильного телевизионного сигнала в ближайшей зоне действия т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центра. Напряжение, поданное на электрод лампы илн транзистора с де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, составленного из резисторов, в меньшей степени зависит от колеба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а электрода, чем напряжение, полученное с помощью гасящего резистор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днако такой делитель, потребляющий ток, нецелесообразно использовать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 случаях, когда желательно экономить энергию, например прн батарей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итании. Здесь лучше применить гасящий резистор. Делитель из конденса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в (рис. 12,е) используется для согласования входа транзисторного каска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контур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ные и нелинейные искажения. В любом усилительном устройстве м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ут возникать искажения усиливаемого сигнала. Важной задачей ивляется 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нижение до допустимого уровня. Одной из наиболее распространенных хара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ристик усилительного устройства является его частотная характеристика,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ывающая, как зависит коэффициент усиления устройства К от частоты си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а в диапазоне частот от ваииизшей частот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до наивысшей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ис. 13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,0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казана частотная характеристика идеального устройст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кривая 1), которое, судя  по характеристике, одинаково усиливает сигнал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761080" cy="306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32000" y="48852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. 13. Частотные и нелинейные иска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частотная характеристика усилителя; б — амплитудная характеристика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—д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искажения П-нмпуль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сех частот, находящихся в заданном диапазоне частот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fH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fB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 В реальны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ловиях получить подобную характеристику невозможно — в пределах ди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азона коэффициент усиления изменяется, снижаясь на граничных частота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(кривая 2). Частотные искажения оцениваются коэффициентом частотных 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жений М, равным отношению коэффициента усиления на средних частота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 к коэффициенту усиления на граничных частотах, т. е. М=Ко/Кн (ил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/Кв). В области звуковых частот ухо человека ие замечает частотных 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жений, если спад или подъем звукового давления, которое пропорциональ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ю на звуковой катушке динамической головки, на граничных ча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тах не превышает ±30%. Поэтому для этих частот можно считать допу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мым значение М не более 1,3 и не менее 0,7. Искажения другого вида во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кают, когда рост входного сигнала вызывает непропорциональный рост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ходного сигнала усилительного устройства. На рис. 13,6 приведена зави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сть выходного напряжения усилителя от входного. Линейное нарастание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bhx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ростом иВх здесь прекращается вблизи точки 1. Дальнейша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линейность характеристики может вызываться нелинейностью характеристи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ьных элементов—транзисторов, ламп. При этом в выходном сигнал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являются частотные составляющие, которых не было во входном сигнале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линейные искажения проявляются в заметном на слух ухудшении звука. Их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ценивают коэффициентом нелинейных искажений К и обычно выражают в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центах. В усилителях высокого класса они составляют доли процентов.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нее высококачественных допускается значение К до нескольких проценто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ка с помощью осциллографа формы выходного импульса при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че на вход усилительного устройства импульсного напряжения и ее отличи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формы входного импульса часто позволяет установить причину, вызвавшу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кажения. На рис. 13,в показано, как входной импульс (штриховая линия)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скажается иа выходе усилительного каскада, если к его нагрузке присоед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н конденсатор большой емкости или если сопротивление нагрузки каскад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лико. Искажения вида, показанного на рис. 13,г, объясняются снижение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-усиления каскада в низкочастотной части полосы пропускания, обусловленны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ычно недостаточными постоянными времени переходных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C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цепей в ка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де. Искажения вида, показанното на рис. 13,3, появляются, когда в кас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 возникают случайные колебания из-за связи между соединительными цеп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, большой собственной емкости активного элемента, влияния корректиру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щих катушек индуктивности и пр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ратная связь. В радиотехнических устройствах для достижения опред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нного эффекта весьма часто используется обратная связь. Представим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чающийся под действием толчка маятник. Колебания его после одно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лчка, продолжаясь с убывающей амплитудой, в какой-то момент прекратя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я — маятник остановится. Если периодически подталкивать маятник в такт с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лебаниями, то маятник будет качаться, пока мы его подталкиваем. Благод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я подталкиванию затухающие колебания маятника превратятся в незатухаю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щие. Если, качнув маятник один раз, мы будем подталкивать его не в такт с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вшимися колебаниями, то после хаотических движений он остановится.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вом случае говорят, что подталкивание маятника производится в фазе, а в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тором случае — не в фазе с собственными колебаниями маятн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ставим теперь, что имеется усилитель У (рис. 14). На его входе у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новлен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 Сигнал на вход усилителя от внешнего источника не п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упает. Соединим выход усилителя со входом через разделительный конден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51840"/>
            <a:ext cx="835164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скольку выход усилители связан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ом, на резистор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поступит усиленное напряжение шумов, которое внов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ся, и т. д. Если напряжение с выхода усилителя подается иа вход 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фазе, т. е. при нарастании сигнала иа входе сюда же поступает нарастающи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ыходной сигнал, то в усилителе возникнут электрические колебания, частот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ых будет зависеть от емкости конденсатора С и других элементов у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еля, через которые проходит ток сигнала. Для поддержания колебаний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е используется энергия постоянного тока, питающая усилитель. Таки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•образом, из усилителя получился источник колебаний, т. е. генератор. Обра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я связь, из-за которой возникли колебания, называется положительной 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тной связь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ольшинство генераторов вырабатывает электрические колебания имен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лагодаря использованию положительной обратной связи. Что же касаетси уо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лителей, то в них стремятся ве допустить образования положительной обра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связи, губительной для усилителя, поскольку стабильность его работы пр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м может нарушиться в такой степени, что им уже нельзя будет воспользо»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ться. С этой целью принимают соответствующие меры при монтаже усил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я: разносят провода входных и выходных цепей, экранируют провода, и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ьзуют развязывающие цепи и т. 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опустим теперь, что выходной сигнал поступает иа вход не в фазе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ным напряжением. При. этом результирующее напряжение иа входе буде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не расти, а уменьшаться. Обратная связь, осуществленная таким образом,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ывается отрицательной обратной свизью. Она снижает коэффициент усиле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силителя. Однако, несмотря на это, ее применение приводит к улучшени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елого ряда параметров усилителей, поэтому она широко используется практ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ски в любом усилителе звуковой частоты. За счет применения отрицатель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тной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связи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дается снизить нелинейные искажения, выровнять частотну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характеристику усилителя, сделать его параметры .менее зависимыми от кол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ний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(Питающих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й или от смены транзисторов (ламп), повыси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ное сопротивление усилителя и т. 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027080" y="3510000"/>
            <a:ext cx="109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mbria"/>
                <a:ea typeface="Times New Roman"/>
              </a:rPr>
              <a:t>-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7080" y="17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360" tIns="-456480" bIns="-7200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027080" y="3570120"/>
            <a:ext cx="109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mbria"/>
                <a:ea typeface="Times New Roman"/>
              </a:rPr>
              <a:t>-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8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360" tIns="-456480" bIns="-7200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71640"/>
            <a:ext cx="80643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жения. Чтобы определить, ка-кое все же напряжение в электрической сети, исходят из следую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его.Имеются различные потребители электрической энергии: электроплитка, осветительные лампы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Franklin Gothic Dem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. Электрический ток, перемен-ый или постоянный, накалива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троплитку, производит определенную работу. Если произодимая работа получается оди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вой при обоих видах тока например, нагрев плитки до 500 °С), то значение напряженияпеременного тока считается равным значению напряжения постоянного тока и называется действующим значением напряжения. Таким образом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говорят, что в сети 220 В, то имеется в виду действующее значение напря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ия переменного тока. Действующее значение напряжения переменного ток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ьше его максимального значения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Чтобы иметь в сети действующее на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жение 220 В, максимальное значение должно превышать его в 1,41 раза, т. 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ma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4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Если известно максимальное (амплитудное) значение напряжения, 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ствующее значение определяется как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,7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max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лава  2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АМОДЕЛЬНЫЕ ПРИБОР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комплект измерительных приборов начинающего радиолюбителя вхо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ят осциллограф, генератор звуковой частоты, генератор импульсов, гене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тор высокой частоты и мост для измерения сопротивлений и емкости. При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оры собирают иа отдельных платах я устанавливают в соответствующих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рпусах* Осциллограф собирагтся в ящике со съемными боковыми стенкам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рансформатор питания помещают в кожух, пристыковывая его к осциллог-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ф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.1. Осциллограф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переводе иа русский язык слово «осциллограф» означает «устройс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о для записи изображений». На практике осциллограф используют для граф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ского отображения каких-либо электрических процессов. Он может быть м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аническим, когда запись осуществляется на движущуюся основу (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умагу), или электронным, когда изображение получают на экране электрон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учевой трубки (ЭЛТ). Для наблюдения электрических процессов в радиотех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ческих цепях часто используют электронные осциллограф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нову такого осциллографа составляет ЭЛТ, представляющая собой сте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янную вакуумную колбу с установленными внутри электродами и слоем лю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инофора на торцевой части, образующей экра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стройство ЭЛТ схематически показано на рис. 15. Из катода К, нагрева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го с помощью нити иакала Н, излучаются электроны. Между катодом и ан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м А приложено высокое постоянное напряжение (плюс на аноде). Под дей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твием этого напряжения электроны устремляются в сторону анода, послед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тельно проходя иа своем пути сквозь отверстия в модуляторе М и фокус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ующем электроде Ф. В некоторых случаях фокусирующий электрод н анод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зывают первым и вторым анодами соответственно. Поскольку в аноде такж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меется отверстие, то электроны, набравшие скорость, по инерции про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ерез него и, минуя две пары пластин О* и Ои, попадают на люминофор Л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зывая его свечение — иа экране появляется светящееся пятно. Используе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ый в ЭЛТ люминофор обладает шособнбстью излучать свет не только в м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т попадания электронов, но и спустя некоторое время после их воздейс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ия, т. е. он обладает послесвечением. Это послесвечение составлиет для обыч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ых осциллографических трубок доли секунды и проявляется в том, что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исованное на экране изображение быстро протекающего процесса удержива-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04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в течение времени, необходимого глазу для его детального рассмотр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десь учитывается физиология зр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оны, имеющие одноименный отрицательный заряд, стремятся оттолк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ться друг от друга, поэтому пятно на экране не имеет четких границ. Ч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 вместо расплывчатого пятна получить светящуюся точку, электронный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должен быть соответствующим образом сфокусирован. С этой целью -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на фокусирующий электрод Ф подают с движка переменного рез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чем обеспечивается возможность плавной фокусировки луча. Для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нения количества электронов, попадающих на люминофор, 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ркости его свечения на модулятор М подают отрицательное относительно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да напряжение с движка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. Регулируя сопротив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можно изменять количество электронов, проходящих сквоз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верстие в модуляторе. При достаточно большом отрицательном напряжен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модуляторе (движок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в крайнем правом поло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и) электроны, отталкиваясь от него, ие смогут пройти сквозь отверстие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дуляторе и экран светиться не будет. В результате взаимодействия элект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ских полей модулятора, фокусирующего электрода и анода при определе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х на электродах можно получить на экране ЭЛТ яркую точ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метрам в десятые доли миллиметра, т. е. сфокусировать луч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пути электронов взаимно перпендикулярно расположены отклоняющ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стины Ож и О;, (см. рис. 15). Если на пластины не подано напряж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онный луч, проходя по оси ЭЛТ, создает светящуюся точку примерно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ентре экрана. Допустим, что к пластинам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ложено какое-то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, причем верхняя пластина находится под положительным потенци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м, а нижняя — под отрицательным. В этом случае электронный луч отк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ятся от первоначального положения в сторону верхней пластины и точка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е переместится вверх. Если полярность приложенного к пластинам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я изменить (минус на верхней пластине, плюс — на нижней), то то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стится вниз. Смещение точки в сторону от центра будет тем больши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м больше напряжение на пластинах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.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чрезмерном напряжении то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обще может переместиться за пределы экрана, а электроны будут «оседать&gt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положительной пластине. Подавая напряжение на пласти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ы пе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щаем точку на экране в вертикальном направлении или, как говорят, по ос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оэтому пласти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зывают вертикальными. Если на пласти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ть напряжение переменного тока с частотой 1 Гц, то точка на экране ка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ую секунду будет перемещаться из среднего положения в крайнее верхн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тем, минуя среднее положение, в крайнее нижнее и вновь в центр экрана,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. д. Это движение точки из-аа малой скорости будет заметно для глаз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значительном увеличении частоты переменного напряжении отдель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азы движения точки ие будут различаться глазом, а на экране появи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итная неподвижная вертикальная линия, длина которой будет тем больш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м больше значение напряжения, поданного на пластины. Ясно, что в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 увидеть форму колебания не удастся. Чтобы на экране была изобра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форма колебания, нужно одновременно перемещать луч в горизонт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авлении. Для этого в ЭЛТ используют вторую пару пластин О*- При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че напряжения на пластины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Ох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клонение точки на экране будет проис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ть в горизонтальном направлении, т. е. по осн X. Пластины О* поэтому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ывают горизонтальными. Наличие двух пар отклоняющих пластин позволя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авать на них соответствующие напряжения и перемещать светящееся пятно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 экрану в любом направлеини. т. е. действовать электронным лучом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воеобразным карандашом и «рисовать» на экране осциллографа практ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юбые фигур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олучения действительного изображения формы какого-либо перем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го напряжения необходимо, чтобы напряжение, отклоняющее луч в гориз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ьном направлении (напряжение развертки), изменялось по определенно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кону. В большинстве случаев в качестве напряжения развертки использ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, равномерно увеличивающееся, например, от нуля до какого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ровня и резко спадающее до первоначального значения. Такое напряж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оминающее по форме зубья пилы, называется пилообразным. На рис.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казан один период пилы. Участок О — а, в пределах которого напря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зрастает, считается прямым ходом, а а—б, где напряжение резко снижа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— обратным ходом пилообразного напряжения. Это напряжение (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развертки), .приложенное в определенной фазе к пластинам О* и име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у не менее 25... 30 Гц заставит электронный луч сравнительно медл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щаться слева направо за время прямого хода и значительно быстр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права налево — за время обратного хода. На экране ЭЛТ появится гориз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ьная линия. Здесь имеется прямая аналогия с движением карандаша по б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ге: когда пишут, карандаш медленно передвигают слева направо (прям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од) и быстро возвращают в исходное положение (обратный ход) к начал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вой стро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ставим теперь, что в то время, как электронный луч под воздейств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м напряжения развертки чертит на экране горизонтальную линию, на верт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льные пластины подается напряжение сигнала, например, показанной на ри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7 ступенчатой формы. Допустим, что период Т этого напряжения равен п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иоду пилообразного напряжения развертки (штриховая линия на рис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у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удем считать, что длительность обратного хода равна нулю. Электронны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уч в этом случае поведет себя как карандаш в руке чертежника, заостр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м кончиком карандаша будет светящаяся точка на экране, а бумагой —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лой люминофора. Услоиимся, что процесс нарастания ступенчатого и пилооб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ного напряжения начинается одновременно в момент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=0. Начав движение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ка переместится в горизонтальном направлении до момент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когда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жение сигнала скачком возрастет до значе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|. При этом точка переместится вверх по экрану на соответствующее расстояние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а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тем продолж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вижение в горизонтальном направлении до момент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, когда напряж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игнала возрастет до значе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 В тот же момент точка на экране займ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вое положение, переместившись вверх, и продолжит движение до момент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619280" y="549360"/>
            <a:ext cx="6985080" cy="3671280"/>
            <a:chOff x="1619280" y="549360"/>
            <a:chExt cx="6985080" cy="3671280"/>
          </a:xfrm>
        </p:grpSpPr>
        <p:pic>
          <p:nvPicPr>
            <p:cNvPr id="1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19280" y="847800"/>
              <a:ext cx="6985080" cy="25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864760" y="549360"/>
              <a:ext cx="132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ffffff"/>
                  </a:solidFill>
                  <a:latin typeface="Garamond"/>
                </a:rPr>
                <a:t>U.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29720" y="3660120"/>
              <a:ext cx="19342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7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619280" y="3716280"/>
            <a:ext cx="26654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16. Пилообразно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апря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507480"/>
            <a:ext cx="30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17. Сигнал ступенчато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перь можно представить, из каких основных узлов, кроме ЭЛТ, должен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стоять осциллограф. Прежде всего в нем должен быть узел электропит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П. Далее необходим узел развертки УР, создающий пилообразное напря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. И все... Этих двух узлов достаточно, чтобы собрать простейший осцилло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ф. Его функциональная схема приведена на рис. 18. Из нее видно, что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m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сигнал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"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BX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осциллограмму которого предполагается рассмотреть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дается на вертикальные отклоняющие пластины Он. Чтобы осциллограмм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ыла удобна для наблюдения, вертикальный размер ее должен составля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... 30 мм, а это значит, что на пластины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ЛТ, работающей в типов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жиме, должно быть подано напряжение от десятков до сотни вольт. В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вляющем большинстве случаев напряжение сигнала, подлежащего изучению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 помощью осциллографа, имеет во .много раз меньшее значение и нуждаетс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усилении. Поэтому в функциональную схему добавляют узел усиления си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а УС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ссмотрим возможность технической реализации функциональной схемы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а, показанной иа рис. 18. Для этого необходимо сформулирова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щие требования к прибору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циллограф предназначен для наблюдения электрических процессов, 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одических колебаний, импульсных напряжений и токов. Он должен обес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ивать возможность измерять напряжения постоянного и переменного тока, п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метры импульсов, сопротивления, емкости и другие электрические величины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сновные технические данные осциллографа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именьшее значение напряжения, подаваемого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ход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для   получения   осциллограммы   размером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 вертикали не менее 15 мм, В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0,05... 0,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са частот усилителя входного сигнала, Гц .    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 ... 20 00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а развертки *, Гц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... 30 00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ы измерения напряжения постоянного тока, В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... 1000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ы измерения напряжения переменного ток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мпульсного напряжении, В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... 50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ы измерения сопротивления, Ом   .    .    .    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0 ... 4 000 00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еделы измерения емкости, МкФ    ...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0,001 ...'10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яжение питающей сети, В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20, 127, ПО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* Амплитуда развертки в указанном диапазоне частот должна быть достаточ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для получения линии развертки, равной по длине диаметру экрана ЭЛ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сходя из приведенных требований выбирают электронно-лучевую трубку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дяодетали, составляют принципиальную схему осциллографа. В качеств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"ЭЛТ для любительского прибора целесообразно использовать трубки 8Л029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экраном диаметром 80 мм, 5Л038И (50 мм) или другие аналогичные труб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широкого применения. В описываемой конструкции применена ЭЛТ 8Л029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орошо работающая при напряжении на аиоде, уменьшенном более чем вдво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 сравнению с паспортным значением. При этом яркость экрана и качеств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фокусировки остаются вполне удовлетворительными. Использование в люби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льском приборе ЭЛТ в режиме с пониженным анодным напряжением име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яд преимуществ. Во-первых, повышается чувствительность по отклонению 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ю отклоняющих пластин 0*0». При паспортном режиме пита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'чувствительность пластин </a:t>
            </a: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Оу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трубки 8Л029И составляет только 0,2 мм/В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Это значит, что если к отклоняющим пластинам приложить напряжение пос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* тоянного тока, равное 1 В, то электронный луч, а следовательно, точка иа э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не переместятся на 0,2 мм, при 10 В — на 2 мм. Чтобы получить откл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ние на 20 мм потребуется уже 100 В. При понижении анодного напряж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 600... 700 В (вместо паспортного 1500 В) для перемещения точки на 20 м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ебуется отклоняющее напряжение около 20 В — чувствительность возраст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 в 5... 6 раз! При этом требования к узлу питания, от которого потребуетс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еньшее напряжение, значительно .упрощаю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же говорилось, что в простейшем любительском осциллографе вмест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анзисторов предпочтительнее использовать радиолампы. Перечисленным ране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ребованиям можно удовлетворить, если использовать в устройстве комбинир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анную радиолампу триод-пентод типа 6Ф4П. В этом случае пентод мож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менить для усиления напряжении сигнала, а триод — для получения н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жения развертки. По паспортным данным, напряжение питания этой ламп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жет достигать 550 В. Практически она успешно работает при напряжен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€00 В, т. е. при напряжении, достаточном и для одновременного питания ЭЛТ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Это позволяет в узле питания применить один общий выпрямитель и для 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ы, и для ЗЛТ. В обычных же осциллографах используют не менее двух вы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ямителей: один для питания устройства, другой для труб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ставим себе две металлические пластины А н Б, установленные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енном расстоянии друг от друга. Между пластинами на тонкой нитк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сит шарнк, скатанный из папиросной бумаги, на который наведен отриц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ный заряд (например, трением о шерсть). К пластинам приложено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е, медленно изменяющееся по синусоидальному закону. Каждая из пл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н попеременно будет находиться то под положительным, то под отрицате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м потенциалом. Шарик придет в - движение: заряженный отрицательно, о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чнет качаться подобно маятнику, каждый раз стремясь оттолкнуться от о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цательно заряженной и приблизиться к положительно заряженной пластин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данном случае шарик качается под воздействием электрического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удвоенной амплитудой, называемого напряжением размах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Итак, 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ключить, что в электрической сети и на выходе любого источника синусо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ьного напряжения имеются как бы три значения напряжения: действу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ксимальное (амплитудное) и напряжение размаха. Этн напряжения 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стыми соотношениями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0,71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ma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ma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41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;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2,8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ma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сех потребителях электроэнергии (нагревательных приборах, осве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ных лампах и пр.) в качестве рабочего напряжения указывается дей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ующее значение переменного напряжения. Это обстоятельство следует учит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ь при разработке, сборке и налаживании радиоаппаратуры. К примеру, е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 конденсатор с указанным на корпусе рабочим напряжением 220 В под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ть к сети с действующим напряжением, также равным 220 В, то он, во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но, будет пробит, поскольку максимальное напряжение в сети превыш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00 В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рение напряжений, о которых говорилось ранее, осуществляется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чными способами. В любительской практике нх наиболее удобно измерять 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иальная схема. Принципиальная схема, соответствующая выб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функциональной, приведена иа рис. 19. Оиа содержит четыре узла: уси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я сигнала, развертки, ЭЛТ и питания. Так как на отклоняющие пласт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ается сигнал, а источник сигнала, как правило, соединен с общей шин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 пластины по одной из каждой пары, а также анод ЭЛТ должны иметь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нциал общей шины. Положительный вывод выпрямителя также должен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единен с этой шино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ламповых схемах обычно принято «заземлять» (соединять с общей ш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) отрицательный полюс выпрямителя. В нашем случае, когда для пит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Т и лампового устройства используется общий выпрямотель, заземл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казывается положительный полюс питающего лампу источника. Это не яв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каким-либо недостатком устройства, ио требует установки на входе д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вочного разделительного конденсатора С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илитель сигнала собран на пентодной части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Исследу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игнал подается иа гнездо XI «Вход ~», если это переменный ток, или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нездо Х2 «Вход=», если постоянный. Низкопотенциальный провод от исто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ка сигнала соединяют с зажимом «Общий провод» ХЗ. Перемещенный резистор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«Усиление» используется для плавной регулировки уровня входного сигнала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597360"/>
            <a:chOff x="0" y="0"/>
            <a:chExt cx="9144000" cy="6597360"/>
          </a:xfrm>
        </p:grpSpPr>
        <p:pic>
          <p:nvPicPr>
            <p:cNvPr id="19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4000" cy="628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6280" y="6381360"/>
              <a:ext cx="8033040" cy="216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Рис.  19. Принципиальная схема осциллографа '(левый конец резистора </a:t>
              </a: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R</a:t>
              </a:r>
              <a:r>
                <a:rPr b="1" lang="ru-RU" sz="1400" spc="-1" strike="noStrike">
                  <a:solidFill>
                    <a:srgbClr val="ffffff"/>
                  </a:solidFill>
                  <a:latin typeface="Garamond"/>
                </a:rPr>
                <a:t>28подсоединен к выводу 9Т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тветственно вертикального размера осциллограммы. В зависимости от ви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гнала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ереводят в положение «Усилитель», при кото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кнуты контакты 1—3, 2—4 (переменный ток), либо в положение «Плас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» ПРИ котором замкнуты контакты 1—5, 2—6 (постоянный ток, перемен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с амплитудой более 5 В, ие содержащий постоянной составляющей). В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жении «Усилитель» сигнал через разделительный конденсатор С1 с движ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через разделительный конденсатор С2 и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, устан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ный для повышения стабильности работы усилителя, поступает на упра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яющую сетку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(пентода)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является резистором утеч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ки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7 включен для получения напряжения смещения.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 С5 блокирующий. Напряжение на экранную сетку пентода поступает через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асящи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анодной цепи пентода включен резистор нагрузк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ы С7 и С8 образуют корректирующую цепь, улучшающую вос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ведение сигналов с наиболее низкими частотами (30... 40 Гц). Для хорош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ррекции конденсатор, включенный в цель, должен иметь возможно больш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кость (60... 100 мк), и поэтому приходится применять электролит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. Поскольку рабочее напряжение такого конденсатора не превыш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 450 В, во избежание пробоя вместо одного конденсатора установлено д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ключенных последовательно.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2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6 служат для выравни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й на конденсаторах С7 и С8. При последовательном включении ко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нсаторов равной емкости результирующая емкость будет вдвое меньше е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сти каждого конденсатора в отдельности, ио в данном случае это несущес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нн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анода пентод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усиленное напряжение сигнала через разделитель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 С6 и цеп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СЗ, расширяющую полосу пропускания усилителя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ласти высоких частот, поступает через контакты 2—4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стины вертикального отклонения.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установлен для из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ния полярности подаваемого на пластины напряж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зле развертки используется триодная часть ламп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В анодн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цепь триода включена первичная обмотка трансформатора Т1, вторичная 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тка— в цепь сетки. Между обмотками трансформатора имеется силь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вязь. Как только на лампу поступает напряжение питания, анодный ток три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 начинает нарастать. С такой же скоростью нарастает напряжение иа в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чной обмотке, включенной в цепь сетки таким образом, что сетка оказы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под отрицательным по отношению к катоду потенциалом. Одноврем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рез 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1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2 заряжается конденсатор С12. Причем напряжение 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мотке !(на сетке — отрицательное) нарастает с большей скоростью, чем з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яд конденсатора 01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 мере увеличения отрицательного напряжения на сетке замедляется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стание анодного тока. Как только анодный ток достигнет установившего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начения и его нарастание прекратится, напряжение на сеточной обмотке и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знет, триод откроется, конденсатор С12 быстро разрядится через промеж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 сетка— катод триода. В этот момент анодный ток скачком возрастет,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точной обмотке вновь начнет нарастать напряжение, минус которого буд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конце обмотки, присоединениом к сетке, и процесс повторится. При работ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ройства на конденсаторе С12 возникнет переменное напряжение пилооб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формы с частотой, зависящей от емкости этого конденсатора и сопротивл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2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2 служит также для предотвра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ыкания сетки на положительный полюс источника пит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плавной регулировки частоты пилообразного напряжения используе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потенциомет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1 «Частота». Для расширения диапазона частот разверт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(с помощью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«Диапазон») включается конденса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J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ли СИ. Конденсатор С12 наименьшей емкости включен постоянно. Весь 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пазон частот развертки от 20 Гц до 30 кГц разбивается на три поддиапазона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 „200 Гц (включены конденсаторы С12 и СИ), 200... 2000 Гц (включе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13 и С12), 2...30 кГц (включен С12). Пилообразное напряжение через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ительный конденсатор С15 и контакты 1—2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поступ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а горизонтальные пластины. В тех случаях, когда на горизонтальные плас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 необходимо подать напряжение от внешнего источника (например, при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ении частоты),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переводят в положение «Вход X» (зам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нуты контакты 1—3) и исследуемый сигнал подается на гнездо Х5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7 и конденсатор СЮ включены в цепь катода триода для улуч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ния линейности пилообразного напряжения в низкочастотной части диа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на (20... 70 Гц)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8 установлен для снижения напряжения пит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 триода до значения, достаточного для его нормальной работы. Конденс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 С9 является блокирующи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бы получить на экране неподвижную осциллограмму исследуемого си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а, необходимо, чтобы частоты развертки и сигнала были строго кратны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значит, что если частота сигнала составляет, например, 100 Гц, то непод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ижное изображение его формы может быть получено при частоте разверт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вной 100 Гц. Здесь соотношение обеих частот составляет 1 :1. Если бы ч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та сигнала повысилась до 1000 Гц, то при оставшейся неизменной частот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звертки можно было бы наблюдать на экране 10 полных периодов сигнал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этом случае частоты сигнала н развертки соотносятся как 10:1. Очевид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то колебания двух частот должны происходить синхронно. Для обеспеч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го часть напряжения сигнала подается на управляющую сетку триода и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нает «управлять» частотой генератора, которая автоматическ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вной или кратной частоте сигнала. Сигнал в этом случае называется си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онизирующим, а весь процесс — синхронизацией генератора. Уже при м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ых (доли вольта) значениях синхронизирующего сигнала достигается наде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я синхронизация. Поэтому сигнал подается иа генератор через ограничив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щи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4 и переменны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, позволяющий подобрать оп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мальный режим синхронизации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6 включен для предотвра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ыкания на общую шину разделительного конденсатора СП при регулир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. Для получения неподвижного изображения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соответствующем положении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подбирают частоту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тки приблизительно равной или кратной частоте сигнала (осциллограм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навливается), после чего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 («Синхронизация») подбир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бходимый уровень напряжения синхронизации, обеспечивающий неподви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сть осциллограммы на экра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узел ЭЛТ входит делитель напряжения, включенный между вывода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рямителя и состоящий из 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9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3. Резисторы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1 используются для перемещения электронного луча в горизонта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м и вертикальном направлениях соответственно. Перемещение осуществл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тся при регулировке резисторов за счет введения в цепь отклоняющих пласти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тоянного напряжения с движков резисторов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1 используется ка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птимальный режим синхронизации.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6 включен для предотвращ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амыкания на общую шину разделительного конденсатора СП при регулиров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е резистор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5. Для получения неподвижного изображения резистором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1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и соответствующем положении переключателя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подбирают частоту раз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ертки приблизительно равной или кратной частоте сигнала (осциллограмм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станавливается), после чего резистором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5 («Синхронизация») подбира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еобходимый уровень напряжения синхронизации, обеспечивающий неподвиж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сть осциллограммы на экран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узел ЭЛТ входит делитель напряжения, включенный между вывода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прямителя и состоящий из резисторов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9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0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3. Резистор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1 используются для перемещения электронного луча в горизонта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м и вертикальном направлениях соответственно. Перемещение осуществл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тся при регулировке резисторов за счет введения в цепь отклоняющих пластик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тоянного напряжения с движков резисторов.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1 используется ка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дстроенный и размещен внутри корпуса. С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 «Ф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"кусировка» напряжение подается на фокусирующий- электрод ЭЛТ. Оптима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я фокусировка луча достигается при среднем положеннн движка резистор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менный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3 «Яркость» используется для регулировки ярк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'свечения экрана. При перемещении движка в левую по схеме сторону напр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ие иа катоде ЭЛТ по отношению к модулятору увеличивается, при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тод оказывается под положительным, а модулятор под отрицательным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нциалом. Сопротивл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3 выбрано таким, что при его регу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вке яркость экрана может изменяться от наибольшей до нуля. Через гнезд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4 «Вход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» и конденсатор С16 иа модулятор можно подавать перем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е для получения меток — темных и светлых участков на осцил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амме. С помощью меток, зная частоту создающего их напряжения, 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ить частоту сигнала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4 является резистором утечки для м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улятор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зел питания осциллографа состоит из выпрямителя и двухзвенного фи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. В выпрямителе использован трансформатор Т2. С обмотки II трансформ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ра напряжение подается на выпрямитель, собранный по схеме с удво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. Диод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включены попарно последовательно и зашу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рованы резисторам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4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7, уравнивающими обратные напряжения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м из диодов. Этим диоды предохраняются от пробоя и могут обесп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вать на выходе выпрямителя напряжение свыше 600 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 узлу питания осциллографа предъявляются особые требования. Он 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лжен быть источником электрических наводок, которые могут возникну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з-за плохой фильтрации выпрямленного напряжения. В результате подобны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аводок электронный луч в ЭЛТ деформируется — вместо резко очерченн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ки на экране появляется эллипс. Осциллограмма, написанная не точкой, 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ллипсом, оказывается размытой, нечеткой. Чтобы избежать электрическ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водок, пульсации выпрямленного напряжения должны быть возможно мень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шими. С этой целью в выпрямителе используется фильтр с двумя идентичным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веньями. В каждом звене установлено по дросселю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). Учтена воз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жность работы выпрямителя при повышенном напряжении в сети, когда вы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ямленное напряжение превышает 600 В. Поскольку электролитические конд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аторы, используемые в фильтрах, рассчитаны на меньшее рабочее напряж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00... 450 В), вместо одного конденсатора используют по два включенных п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ледовательно (С19, С20 и С21, С22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ля уравнения напряжений коиденсато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ры зашунтированы резисторам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9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0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1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2. С точки соединения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нсаторов С23 и С24 снимается напряжение — 300 В, которое через развя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зывающий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8 поступает иа гнездо XII и может использоваться дл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итания различных макетон, потребляющих ток не более 20... 25 мА. Конде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атор С17 — блокирующ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редупреждение!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скольку положительный полюс выпрямителя соедине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общей шиной, то источник питания 300 В имеет отрипательную полярнос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о отношению к общей шине осциллографа. Этим напряжением, повторим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жно питать только устройства, у которых плюс соединен с общей ши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яжение для питания накальных цепей лампы н ЭЛТ поступает с об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тки III трансформатора Т2. С целью предотвращения наводок с частот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50 Гц, которые могут проникнуть в устройство по пепям накала, включен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6 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7, к точке соединения которых подключен отрицательны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. Пилтакяи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мощью осциллографа, наблюдая на экране форму переменного напря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 всеми его характерными составляющи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 радиолюбителям приходится иметь дело с импульсным напряжение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торое также измеряется с помощью осциллограф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иапазоны радио- и звуковых частот; Диапазон-радиотаетату. используемы*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бытовых радиоэлектронных устройств, простирается от 100' кГц до 3000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Гц. На этих частотах осуществляются передача и прием радиовещатель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телевизионных программ. Диапазон звуковых частот, воспроизводимых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кокачественными усилительными комплексами, составляет 25 Гц... 20 кГц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ш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диоволны, электрические колебания, модуляция, преобразование ча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ы. Радиоволны — это переменные электромагнитные поля, распростру ня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иеся в пространстве. Источники радиоволи разнообразны:- Например,,, при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отком замыкании двух проводов с током возникает искра, которая, вспых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в, испускает радиоволны. Электрическая дуга при сварке является источ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м радиоволн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вод выпрямителя. С обмотки IV к гнездам Х7, Х8 подводится напряж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,3 В, используемое как эталонное и для других цел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то напряжение подается на выпрямитель с удвоением напряжения (д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д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5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6, конденсаторы С25—С27, резистор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8). На выходе выпрям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ля -установлен стабилитрон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7, обеспечивающий на зажимах Х9, Х10 ст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ильное постоянное напряжение 10 В. Оно предназначается для питания тра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исторных устройств, потребляющих не более 20 ... 25 м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редупреждение!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 массой может быть соединено любое, но только од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з гнезд Х7—Х10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 гнезду Х6 через цепь С18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3 подается напряжение пульсаций с час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той 100 Гц, используемое при измерениях частоты, а также для других ц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й. В цепи сетевых обмоток установлены предохранитель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U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 и выключател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етевого напряже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, совмещенный с регулятором ярк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блица 1. Радиодетали, используемые в осциллограф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диодета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ческие дан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сформатор Т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рансформатор Т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россел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ключатель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1, С2, С4, С6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9, С15, С16, С1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21—С2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19, С20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7, С8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7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онденсаторы СЗ, СП—С13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ы постоян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9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4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6—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9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2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4—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2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3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4-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3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зисторы перемен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l, RIO,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Ш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, R15, R20..R21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2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Конденсаторы С25—С27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рдечник Ш12Х-12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мотка 1— 1500 витков ПЭВ-0,08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мотка II — 3000 витков ПЭВ-0,08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использовать трансформаторы БГК о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ерно-белых   телевизоров   «Рубни»,   «Темп»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Рекорд»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рдечник Ш25Х27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мотка 1 — 534 + 82 витка ПЭТВ-0,35; 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тка Г—534 + 82 витка ПЭТВ-0,35; обмо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 II — 1250 витков    ПЭТВ-0,2;     обмотк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III —34 витка   ГОТВ-0,8;    обмотка IV —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4 витка ПЭТВ-0,8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использовать трансформатор пит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любого лампового радиоприемника с нап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яжением   повышающей   обмотки  не   боле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30 В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ердечник Ш16Х18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мотка 2000 витков ПЭВ-0,12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но использовать дроссели фильтра от чер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-белых телевизоров «Рубин», «Темп», лам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вых радиоприемник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алетный на три положе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МПО, БМТ и другие с рабочим на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м 600 В, допустимое отклонение от н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нала +200... —50%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КЗ-2Н, рабочее напряженке 300 В, д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устимо отклонение от номинала —50%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КЭ-2-М, рабочее напряжение 450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КЭ-2-М, рабочее напряжение 450 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КСО-13, допуск ±20%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МЛТ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опуск ±20%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опуск '±50%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ипа СП, ВК и другие общего применения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1 — 2 Вт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Garamond"/>
              </a:rPr>
              <a:t>Типа К50-6, рабочее напряжение 25 В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етали и конструкции. Перечень деталей, используемых в осциллограф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н в табл. 1. Конструктивно осциллограф выполнен в виде ящика с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ъемными боковыми стенками и поворотными монтажными панелями (рис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0 я) Размеры ящика, естественно, зависят от размеров использованных в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онструкции деталей, и в первую очередь от трансформатора питания Т2, к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енсаторов и дросселей фильтра выпрямителя, переключателей и пр. Посколь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у при конструировании осциллографа ставилась задача использовать в не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диодетали, имеющиеся в широкой продаже, а их большинство составля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крупногабаритные изделия, разработанные в прошедшие годы, то увеличены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змеры осциллограф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передней панели установлены переменные резисторы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l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0,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5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1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3 (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3 с выключателем сети), переключатели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—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4, гнезда XI—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Х10. На левой поворотной панели (со стороны экрана ЭЛТ) установлены ла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^ла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VL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трансформатор Т1, электролитические конденсаторы С7, С8, две мон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ажные платы с деталями усилителя, узла развертки и частично узла ЭЛТ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еременный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. Часть резисторов и конденсаторов монтируется и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лепестках деталей, установленных на передней панел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правой поворотной панели размещены детали выпрямителей на 600 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10 В с фильтрами. Конденсаторы фильтра С19—С24, обернутые нескольки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лоями плотной бумаги, укреплены на панели с помощью полоски из эластич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го синтетического материала шириной 50... 70 мм. Здесь же устанавливаю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гнездо XII «—300 В», размещают конденсатор С18 и резистор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8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Чтобы уменьшить магнитные иаводки на ЭЛТ, источником которых являет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я трансформатор питания Т2, трансформатор установлен в отдельном съем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ом кожухе. В рабочем положении кожух с трансформатором размещается и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асстоянии от основного ящика, исключающем наводки, а при переноске ук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репляется на задней панели ящика с помощью простейшего замкового меха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изма. Перед установкой кожуха в него укладывают соединительный кабель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вязывающий трансформатор с остальной частью устройства, сетевой шну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 другие провода, используемые при работе с осциллографом (входной кабел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 зажимом «крокодил» и однополюсной вилкой, два провода с задела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 концах однополюсными вилками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ектронно-лучевая трубка укреплена в ящике следующим образом (ри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0,6). На задней панели установлен держатель кольцевой формы с разре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ис. 20,е). Центр держателя находится на одной оси с центром отверстия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цевой панели, в которое вставляется ЭЛТ при установке в ящик. Имеющий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на цоколе трубки ключ с некоторым усилием входит в кольцевой держ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ль. В качестве держателя использован каркас от семиштырьковой пане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альчиковой лампы, в котором сделан соответствующий пропил. По окружн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и отверстия в лицевой панели для лучшей фиксации положения ЭЛТ ул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ена разрезанная вдоль полихлорвиниловая трубка. Подобное крепление мо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 использовать для трубок, имеющих цоколь с ключом (8Л029И, БЛ038И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тановить бесцокольную ЭЛТ можно с помощью металлического хомута, ох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ывающего цилиндрическую часть трубки и прикрепленного к верхней 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ли ящика. При отсутствии ламповой панели для ЭЛТ провода припа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посредственно к соответствующим ножкам трубки. Место припайки дол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ыть хорошо прогрето и залужено. Подобная пайка какой-либо опасности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ЛТ не представляе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упающую часть ЭЛТ (экран) закрывают (рис. 20,г) (шкалой из орга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634080" cy="4105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7880" y="4951080"/>
            <a:ext cx="78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нс. 20. Конструкция осциллограф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поворотные панели; б —кожух трансформатора питания и его крепление; в —держатель ЭЛТ; г—шка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ческого стекла с нанесенными на нее делениями. Число делений — восем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сят. Деления в виде горизонтальвых рисок прочерчивают заостренным 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ллическим предметом. Каждое десятое деление должно иметь большую д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у. Чтобы исключить параллакс, деления наносят с обеих сторон шкал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цевую, верхнюю и нижнюю панели изготавливают из металла толщ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й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1,5..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мм. Заднюю стенку можно изготовить из фанеры толщиной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..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м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поворотные панели — из прессшпана, оргалита и т. п. К панелям в верх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нижней частях прикрепляют деревянные планки с отверстиями под крепе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ые винты. Чтобы повернуть панель, выворачивают винт, находящийся ближ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 задней стенке. Для переноски осциллографа к верхней панели прикрепле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учка. Под нижней панелью укреплены две деревянные рейки, заменяющ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ож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жух трансформатора Т2 изготовлен из металла толщиной 1,5... 2,0 м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ис. 20,6). На трансформаторе укреплена панель с установленным на ней дер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ателем предохрани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Панель отделяет трансформатор от места в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ухе, где размещаются провода. Трансформатор вместе с панелью устанав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в кожух и закрепляют в нем. На боковых сторонах кожуха устанав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ют Г-образные направляющие, изготовленные из металла толщиной 2... 3 м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упающие за габаритные размеры кожуха, они играют роль замков: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ух приставляют к задней стеике ящика таким образом, чтобы направляющ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ходили в продольные вертикальные пазы на стенке и после перемещения к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уха вниз надежно закрепляли его в состыкованном с ящиком положен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сформатор соединяют с остальным устройством с помощью кабеля (в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мь отрезков провода в хлорвиниловой трубке), концы которого припа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 лепесткам монтажной планки. При желании для соединения можно исп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вать восьмиштырьковый разъем любого тип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итаж и налаживание. Монтаж осциллографа выполняют, руководст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ясь принципиальной и монтажной (рис. 21) схемами. Чтобы свести к миниму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ремя, затрачиваемое на налаживание аппарата, перед монтажом все дета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едует проверить. Для проверки деталей на отсутствие короткого замык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бходимо изготовить пробник (рис. 22), который будет полезен и в дальней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ем при проверке или ремонте других устройств. В качестве измеритель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бора РА можно применить любой микроамперметр или миллиамперметр с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калой до I мА. В пробнике используют батарею постоянного тока напряжен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м 1,5 В. При более высоком напряжении в проверяемых целях, содержащ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ы и микросхемы, возможен пробой этих изделий. Для нормаль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ы пробника необходимо, чтобы при замкнутых гнездах XI, Х2 и средн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ожении движка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стрелка прибора отклонялась и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сю шкалу. Последнее деление шкалы принимается за нуль. Если известен то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тклонения прибора (на всю шкалу), то суммарное сопротивление резисторо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определяют по формул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= 1500/1, где I — ток отклон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релки прибора на всю шкалу в миллиамперах. Найдя суммарное сопроти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ение, определяют сопротивление каждого резистора, разделив суммарное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ам (т. е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=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). Полученное значение переменного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увел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ивают на 30... 40%, чтобы иметь некоторый запас при установке стрелки проб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ка на условный нул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струкция пробника зависит от габаритных размеров примененного п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ра. При его относительно небольших размерах пробник можно размести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имер, в пластмассовой мыльнице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5149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763640" y="692280"/>
            <a:ext cx="5916600" cy="3803400"/>
            <a:chOff x="1763640" y="692280"/>
            <a:chExt cx="5916600" cy="3803400"/>
          </a:xfrm>
        </p:grpSpPr>
        <p:pic>
          <p:nvPicPr>
            <p:cNvPr id="21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63640" y="692280"/>
              <a:ext cx="591660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824480" y="4280040"/>
              <a:ext cx="459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55640" y="4797000"/>
            <a:ext cx="712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. 21. Монтажная схе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 —лицевая панель; б—панель усилителя и развертки;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— панель выпрямителя; г—задняя пан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радиоэлектронных устройствах для создания радиоволн и послед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дачи с их помощью той или иной информации широко используются кол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ательные контуры. Простейший колебательный контур состоит из катушк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 определенным числом ©итков и конденсатора С |(рис.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2,а).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сли конденсатор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дключить к батарее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B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и, после того как он зарядится, замкнуть его выв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ы отрезком провода, мы услышим звук искрового разряда — конденсатор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актически мгновенно разрядится. Если заряженной конденсатор присоед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ить к катушке, то его разрядка через витки катушки произойдет не мгнов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. Катушка обладает известным качеством — индуктивностью. Индуктивно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внозначна инерции. Присоединенный к катушке конденсатор из-за инерц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тушки сравнительно медленно отдает свою электрическую энергию кату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392720" cy="2509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82920" y="4004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Рис 22. Проб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роверив с помощью пробника де-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али, приступают к монтажу. Резисто-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ры и конденсаторы припаивают к мон-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ажным лепесткам, представляющим со-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ой полоски жести шириной 3...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5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мм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пущенные с усилием сквозь отвер-стия в плате и загнутые с обеих 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он. При пайке необходимо соблюдать ос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ожность, не допускать растекания расплавленного припоя, что может п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сти к замыканиям между близкорасположенными деталями или монтажным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епестками. Детали необходимо устанавливать так, чтобы была видна их мар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ировк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ред началом проверки осциллографа от него отделяют кожух с тра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форматором и размещают трансформатор на возможно большем расстояни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 основного ящика (60... 70 см). При налаживании необходимо соблюдать ос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ую осторожность и требования безопасности, поскольку напряжение иа дет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ях может превышать 600 В. Эти требования нужно соблюдать и после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лючения осциллографа, так как конденсаторы фильтра выпрямителя, име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ольшую емкость, «держат» заряд длительное время после выключения. Нал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ивают осциллограф без измерительных приборов. Проверив правильнос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нтажа и его соответствие принципиальной схеме, размыкают цепь, соедин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щую устройство с отрицательным полюсом выпрямителя. Для этого отпаив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т соответствующий провод от точки соединения конденсатора С20 и дросс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я L1, с помощью пробника убеждаются в отсутствии короткого замык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жду отрицательным и положительным выводами выпрямителя. Затем вклю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ют осциллограф, при этом появится свечение нитей накала лампы и ЭЛТ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пустя 20... 30 мин его выключают и сразу же отрезком изолированного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а с зачищенными концами замыкают каждый конденсатор фильтра (С19—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24). Разрядив конденсаторы, прикладывают руку к корпусам конденсатор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 диодов VD1—VD4, проверяя нагрев. Нагревающуюся деталь необходимо з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нить. Сильный искровой разряд и нормальная температура деталей вы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теля свидетельствуют об отсутствии в нем замыкани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Затем восстанавливают соединение в цепи питания н вновь включают 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иллограф. Резистор R1 «Усиление» устанавливают в положение, при котор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вижок соединен с общей шиной, переключатель SA1 переводят в полож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Пластины» (замкнуты контакты 1—5 и 2—6). Переключатель SA4 устанавлив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т в положение «Вход X» (замкнутые контакты 3—1), а гнездо Х5 соединяют с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щей шиной. Движки резисторов R10 и RM перемещают в крайнее левое пол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. Вращая регуляторы «Яркость» и «Фокусировка», получают на экра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ветящуюся точку. Затем проверяют действие регуляторов R10 и R11. При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лировке точка должна перемещаться в горизонтальном или вертикальн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авлении на 20... 25 мм. Далее от гнезда Х5 отключают замыкающий пр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д, переключатель SA4 переводят в положение «Развертка» (замкнуты ко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кты 1—2), регулятор R21 «Частота» устанавливают в среднее положение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гулятор «Синхронизация» в такое положение, когда движок резистора R16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единен с общей шиной, а переключатель SA3 находится в положении, пр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тором подключен конденсатор С14 и частота развертки составляет 20..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... 200 Гц. На экране должна появиться горизонтальная линия, развертки. Она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жет оказаться не горизонтальной. В этом случае необходимо повернуть ЭЛТ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округ оси в ту или иную сторону, пока линия развертки не примет требуем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о положения. Линия развертки должна располагаться симметрично отно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ьно центра экрана. При необходимости ее положение можно изменять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ляторо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гнездо XI вставляют входной «абель, гнездо Х7 соединяют с клемм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Масса» (общая шина), однополюсную вилку на другом конце входного каб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я вставляют в гнездо Х8. Таким образом иа вход осциллографа подают 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еменное напряжение с частотой 50 Гц. При соответствующих положениях р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гуляторов «Усиление», «Частота» и «Синхронизация» получают на экране н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движное изображение синусоиды. Осциллограмма должна иметь размер п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ртикали не менее 10... 15 мм. По данному известному значению частоты сиг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ла можно определить нижнюю граничную частоту диапазона развертки. Д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го регулятором «Частота» добиваются получения двух полных периодов с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усоиды. Разделив частоту сигнала (50 Гц) на число изображенных период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нусоиды (2), получим частоту развертки 25 Гц. Иными словами, за врем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мого хода напряжения развертки электронный луч успевает записать дв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риода напряжения с частотой 50 Гц. Если частота развертки выше частоты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гнала в целое число раз, то, наоборот, за время одного цикла синусоида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го колебания луч несколько раз отклонится в горизонтальном направлении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рис. 23 показаны фигуры, получаемые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е осциллографа, когда частота развертки выш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оты синусоидального сигнала в 2, 3 и 4 ра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рис. 23,а—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ответственно). Если частота сигн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0 Гц, то частота развертки по рис. 23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множением на 50 количества горизонтальных лин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, для рис. 23,я—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на составит соответств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00, 150 и 200 Гц. При еще большей частоте развер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определить ее с помощью сигнала частотой 50 Гц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ановится затруднительно, так как отдельные гор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онтальные линии сливаются. В таких случаях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рения частоты развертки необходимо использ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ать сигнал более высокой частоты, зная ее знач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. Однако в определении границ диапазонов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тки нет особой необходимости. При указанных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иальной схеме номиналах ре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'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конденсаторов С12—С14 обеспечиваются указа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нее диапазоны частот разверт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проверяют работу усилителя. Входной 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ль присоединяют к гнезду XI «Вход ~». В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ец кабеля через дополнительный резистор со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ивлением 1 МОм подключают к гнезду Х8 (гнезд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7 соединено с общей шиной).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ереводят в положение «Усилитель». Регулятора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«Усиление», «Частота» и «Синхронизация» добивают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я получения осциллограммы сигнала. При регулиров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е усиления ее вертикальный размер должен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яться от нуля до размера, превышающего диамет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крана. После этого гнездо Х7 отсоединяют от ма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ы и проверяют источник    постоянного    напряже-   в _ в 4 раз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600360" cy="1103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29080" cy="126036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2627280" y="3213000"/>
            <a:ext cx="3528720" cy="2879640"/>
            <a:chOff x="2627280" y="3213000"/>
            <a:chExt cx="3528720" cy="2879640"/>
          </a:xfrm>
        </p:grpSpPr>
        <p:pic>
          <p:nvPicPr>
            <p:cNvPr id="228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2627280" y="3213000"/>
              <a:ext cx="348804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635560" y="5046120"/>
              <a:ext cx="3520440" cy="1046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6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ис. 23. Фигуры на эк-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ане осциллографа при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частоте развертки выше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частоты сигнала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Franklin Gothic Medium"/>
                </a:rPr>
                <a:t>а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— в 2 раза;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Franklin Gothic Medium"/>
                </a:rPr>
                <a:t>б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— в 3 раза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я 10 В.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переводят в положение «Пластины». Регуля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ом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1 линию развертки совмещают с одним из делений на шкале перед э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ном. Вилку входного кабеля вставляют в гнездо Х2 «Вход=». Вторую вил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у кабеля вставляют в гнездо «10 В» (Х9), а гнездо Х10 соединяют с масс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этом линия развертки переместится на несколько делений вверх или вниз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зависимости от положения переключател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и регулятора «Усиление»,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мощью которого устанавливают целое число делений, например пять ил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есять. Отсчитав чрсло делений, на которое сместилась линия развертки, отм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ем положение на шкале, соответствующее значению напряжения 10 В. З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м к гнездам Х9 и «Масса» подключаем резистор сопротивлением 1 кОм..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кольку напряжение 10 В стабилизировано, то подключение резистора ие долж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 оказаться на значении напряжения и местоположение линии развертки 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зменитс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заключение проверяют цепь подачи на ЭЛТ напряжения меток. К гнез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у Х4 «Вход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» с помощью соединительного кабеля подводят напряжение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ой 100 Гц с гнезда Х6. На линии развертки должны появиться черед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ющиеся темные и яркие участки, являющиеся метками. Частота их рав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е пульсаций выпрямленного напряжения. Для выбранного выпрямител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а пульсаций составляет 100 Гц. Если теперь на зажим «Вход &lt;~»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ть напряжение 6,3 В с гнезд Х7, Х8 (в этом случае общая шина предвар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ьно отсоединяется от гнезда Х10 и затем присоединяется к гнезду Х8)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соответствующей регулировке 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1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6 можно получить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 экране синусоиду с двумя метками на одном ее периоде. Поскольку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а меток 100 Гц, а на одном периоде сигнала помещаются две яркие метки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 означает, что частота сигнала равна 100:2=50 Гц.Рис. 24. Высокочастотный пробник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 — схема; </a:t>
            </a:r>
            <a:r>
              <a:rPr b="1" i="1" lang="ru-RU" sz="1400" spc="-1" strike="noStrike">
                <a:solidFill>
                  <a:srgbClr val="ffffff"/>
                </a:solidFill>
                <a:latin typeface="Garamond"/>
              </a:rPr>
              <a:t>б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— конструкция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" В комплект осциллографа входит высокочастотный пробник, значительн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сширяющий возможности осциллографа как измерительного прибора. С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ощью пробника можно установить, есть ли сигнал в высокочастотных кас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х телевизора, радиоприемника. Принципиальная схема высокочастотного пр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ка приведена на рис. 24,а. Он представляет собой детектор с удвоением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я. С помощью контактов XI и Х2 пробник присоединяют к источник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ысокочастотного сигнала, например к усилителю радиочастоты. Через разд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ительный конденсатор С1 сигнал поступает на детектор на диодах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результате детектирования сигнала на резисторе нагрузк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выделится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 звуковой частоты (если высокочастотный сигнал модулирован по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19280" y="1125360"/>
            <a:ext cx="5471640" cy="3097080"/>
            <a:chOff x="1619280" y="1125360"/>
            <a:chExt cx="5471640" cy="3097080"/>
          </a:xfrm>
        </p:grpSpPr>
        <p:pic>
          <p:nvPicPr>
            <p:cNvPr id="23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093400" y="1125360"/>
              <a:ext cx="4997520" cy="21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619280" y="3460680"/>
              <a:ext cx="26208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ис. 24. Высокочастотный пробник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о — схема;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Garamond"/>
                </a:rPr>
                <a:t>б 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— конструкц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мплитуде) или постоянного тока, которое через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подается на вхо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а. На экране осциллографа появится осциллограмма сигнала зву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вой частоты или будет отмечено какое-то значение напряжения постоянног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ка. В обоих случаях с помощью пробника можно определить, работает 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яемый высокочастотный каскад. Конденсатор С2 обеспечивает пол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ьшего напряжения на выходе детектора.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 конденсатор СЗ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зуют фильтр, подавляющий высокочастотные составляющие на вых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бни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ачестве диод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н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D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 использованы диоды типа Д9Б но 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нить любые другие высокочастотные диоды, желательно германиевы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бвик собирают на плате из любого изоляционного материала н вставл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корпус цилиндрической формы из пластмассы (например, в подходящую уп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вку от лекарства). На донышке цилиндра с одной стороны устанавлива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тырь от штепсельной вилки, с другой — гнезда для подключения к осцилло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фу. Вывод общей шины делают на боковой поверхности корпуса (рис. 24,6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лаживать пробник не нужн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нее говорилось, что при исправных деталях, правильно выполнен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нтаже и его полном соответствии принципиальной схеме осциллограф нач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ет работать сразу. Однако те или иные неполадки в работе могут иметь 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. Поэтому в табл. 2 перечислены возможные неисправности осциллограф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способы их устран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, с осциллографом. С помощью осциллографа можно измерить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я постоянного, переменного и импульсного тока, определять в ря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в частоту сигнала, измерять сопротивления резисторов я емкости конд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торов с достаточной для радиолюбителей точность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мерение напряжения постоянного ток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одят с помощью осциллог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фа. Для этого нужно сначала определить цену деления его шкалы. Це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я, как и в обычном стрелочном вольтметре, называется значение изм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нного напряжения, приходящееся на одно деление шкалы. Роль стрелки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фе выполняет светящаяся точка или линия развертки. Если,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мер, при измерении эталонного напряжения 10 В точка перемест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ять делений от исходного положения, то цена одного деления составит 10:5 =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=2 В. Допустим теперь, что при измерении напряжения другого источ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ка переместится на 27 делений, тогда напряжение этого источника буд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7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4 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змерение проводят в следующем порядке. Включают осциллограф н пр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ревает его несколько минут,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устанавливают в поло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 «Пластины», а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— в положение «Вход X». Регулято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и «Яркость» и «Фокусировка» добиваются получения на экране изображ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очки с наименьшим диаметром. Регуля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1 точку устанавливают на вы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ранном делении шкалы, принимаемом за условный нуль. Регуляторы «Усил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е» переводят в положение наибольшего усиления. Входной кабель вставля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ют в гнездо Х2 «Вход=», второй конец кабеля подключают к гнезду Х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«10 В» (XI0 соединено с массой). Под действием напряжения точка смести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я по вертикали. Число делений, на которое она переместится, должно бы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целым, чего добиваются регулятором «Усиление». Затем определяют цену д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ния шкалы. После этого можно приступить к измерениям. Низкопотенциаль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й вывод источника напряжения, значение которого требуется определить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дключают к общей шине осциллографа. Входной кабель присоединяют к вы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окопотенциальному выводу источника. При этом точка переместится в ново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ожение. Отсчитав число делений и умножив его иа цену деления шкалы, н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дят искомое значение напряжения. Если при измерении точка    перемести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187280" y="907920"/>
            <a:ext cx="6624360" cy="4032000"/>
            <a:chOff x="1187280" y="907920"/>
            <a:chExt cx="6624360" cy="4032000"/>
          </a:xfrm>
        </p:grpSpPr>
        <p:pic>
          <p:nvPicPr>
            <p:cNvPr id="1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244880" y="907920"/>
              <a:ext cx="6566760" cy="33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737520" y="4323960"/>
              <a:ext cx="3182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87280" y="4684320"/>
              <a:ext cx="2707920" cy="255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Рис. 2. Электрические колебания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42920" y="537300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- колебательнь1й контур; б — затухающие колебания: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 незатухающие колебания;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аблица 2. Возможные неисправности осциллографа и способ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х устранен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исправнос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еры по устранению неисправ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сть накал у ЭЛТ и лам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ы. Экран не светитс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экране имеется яр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ая- точка.   Нет ли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вертки   при  люб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ожении переключате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ей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 и резисто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 экране есть лини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вертки, однако пр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даче на вход перемен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ого напряжения 6,3 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иния развертки остает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я неподвижно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ключить и сразу (пока не разогрелись нити нака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а) выключить осциллограф. Проверить выпрям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ль «на искру», прикасаясь проводом от общей ш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ы к точкам соединения элементов С24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4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 отсутствии искры — неисправность в выпрями-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л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и выключенном осциллографе проверить пробн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ом отсутствие короткого замыкания между обще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иной и отрицательным полюсом выпрямителя, о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утствие обрыва цепи, соединяющей выход выпря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ителя с ЭЛТ. Вставив в гнездо ХЗ один коне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оединительного провода, включают и сразу же в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лючают осциллограф и касаются другим конц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ода точки соединения 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6 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7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тсутствие сильной искры (разряда конденсаторов!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фильтра) указывает на обрыв в цепи. Если искр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есть, нужно установить движки резисторов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0 и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1 в крайнее левое (по принципиальной схеме)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ложение, перевести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в полож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ие «Пластины»,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 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— «Вход X». Движок рез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следует перевести в нижнее по схеме п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ожение, а гнездо Х5 соединить с общей шиной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ключить осциллограф и, регулируя резистор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и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3, прикрыв экран от падающего света, пров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ть, нет ли хотя бы слабого свечения экрана. Об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ружив его, выяснить, при каком положении движ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ка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 это имеет место. Если движок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ходится в крайнем левом положении, необходим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оменять местами резисторы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9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ji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^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ъерить исправность резистора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1 и конденса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 С9. Отрезком провода, соединенным с общей ш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, проверить при включенном осциллографе нал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ие напряжения (по искре) на аноде и катоде три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а 6Ф4П. Возможно неправильное включение кон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ов первичной или вторичной обмотки трансформ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а Т1. Заменить лампу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ерить пробником отсутствие обрыва в соедин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елльых цепях от гнезда Х2, переключател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1 д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управляющей сетки пентода 6Ф4П, а также цепь от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ереключателя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 до ЭЛТ. Прозвонить конденс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оры С1 и С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мерение напряокения переменного тока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вышающего по амплиту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В, проводят в том же порядке, что и постоянного. При меньших значения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 используют усилитель, для чего переключатель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ереводят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ответствующее положение. В качестве эталонного в этом случае берут н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яжение переменного тока 6,3 В, снимаемое с гнезд Х7, Х8. Гнездо Х8 с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диняют с общей шиной, отсоединив общую шину от гнезда Х10. Входно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бель подключают к гнезду Х8, и на экране вместо точки появляется верт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льная линия, по длине которой определяют значение измеряемого напряж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ия. Следует иметь в виду, что линия является результатом действия на пл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ин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напржения размаха, равного примерно 18 В (6,3x2.8=17,7). Однак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а линия пропорциональна также и действующему напряжению, т. е. 6,3 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ходя из этого определяется цена деления шкалы. Если с помощью регуля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 «Усиление» установить длину линии, равной примерно 6,3 делений, то це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я составит 1 В действующего напряжени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 Пользуясь ею, можно и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ерить действующее напряжение переменного тока при синусоидальной фор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пряж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мерение импульсного напряжени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-образной формы, пилообразной и пр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изводят так же, как напряжения синусоидальной формы. Однако н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лучае в качестве эталонного напряжения для определения цены деления шк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ы принимается максимальное значение синусоидального напряжения 1,41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вное 8,8 В. Это значение можно округлить до 9 В, если не требуется боль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шая точность измер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Измерение импульсного напряжения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-образной формы, пилообразной и пр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изводят так же, как напряжения синусоидальной формы. Однако н это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лучае в качестве эталонного напряжения для определения цены деления шк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лы принимается максимальное значение синусоидального напряжения 1,41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вное 8,8 В. Это значение можно округлить до 9 В, если не требуется бол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шая точность измер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Измерение частоты переменного тока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оводят путем сравнения сигнал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двух частот: неизвестной, подлежащей определению, и известной, эталон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стоты. Поэтому для измерения необходим источник переменного тока, ч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оту которого можно изменять в определенных пределах. Сигнал с неизвест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ой частотой подают на вход осциллографа «Вход =» или Вход в зав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мости от напряжения сигнала. Изменяя частоту развертки, получают па эк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ане изображение одного-двух полных периодов напряжения неизвестной ч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оты. Далее на гнездо Х4 подают сигнал от генератора с известной частот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апример 2 кГц. Поступая иа модулятор ЭЛТ, этот сигнал воздействует н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лектронный поток, интенсивность которого начинает изменяться в такт с ч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тотой сигнала, и на линии развертки появляются метки. Если иа одном пе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риоде сигнала с неизвестной частотой «укладывается» десять ярких точек, т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о значит, что измеряемый сигнал имеет в 10 раз меньшую частоту, т. е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200 Гц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качестве генератора с известной частотой можно использовать описы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аемый в последующих разделах генератор сигнала. При измерении частоты до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00... 500 Гц в качестве сигнала меток можно использовать пульсирующее н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пряжение, снимаемое с гнезда Х10 «100 Гц». Если частота меток ниже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ы сигнала, то значение частоты сигнала можно определить по числу периодов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игнала, умещающихся между соседними метками. Измерить часто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ту можно и следующим способом: переключатель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4 перевести в полож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«Вход X», а на гнездо Х5 подать сигнал с неизвестной частотой. На вход ос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циллографа, как и в предыдущем случае, подается сигнал от генератора с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эталонной частотой. При взаимодействии сигналов иа экране появится изобр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жение различных фигур. Изменяя частоту генератора с эталонной частот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следят за изображением на экране. Если сигналы синусоидальные, то при ра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енстве частот на экране в зависимости от фазы колебаний изобразится ли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о наклонная линия, либо эллипс, либо окружность. При частоте генератор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в 2 раза меньшей, чем измеряемая, изобразится фигура, напоминающая вось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ерку. Этот метод определения частоты называют метрдом Лисажу, а полу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чающиеся фигуры — фигурами. Лисажу. Для измерений по фигурам Лисаж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необходим генератор с перестраиваемой в широких пределах частотой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змерение сопротивления резисторов и емкости конденсаторо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полня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помощью так называемого мостового устройства, где осциллограф служи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дикатором нуля. Подробно об этом говорится дале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.2. Генератор звуковой частот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звуковой частоты (рис. 25,а) используется в качестве источ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фиксированных звуковых частот около 1 и 10 кГц. Генератор состоит из ус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ительного каскада на транзисторе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, выход которого соединяется со вх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м через цеп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С1—СЗ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6, С4—Сб. Цепи включаются с пом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щью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Номиналы деталей, входящих в цепи, выбраны таки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зом, что в схеме возникают синусоидальные колебания, частота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ределяется данным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и С. При замкнутых контактах 1-—5 и 2—6 часто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1 кГц, при замыкании контактов 1—3 и 2—4 частота 10 кГц. Резистор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 является резистором нагрузки. Он же используется в качестве регуля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ходного сигнала 34. Конденсатор С8 — разделительны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 гнезду Х2 подключается потребитель. В генераторе используется тра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 типа МП13, вместо которого можно применить любой маломощ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анзистор, предназначенный для усиления напряжения звуковой частоты.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мене транзистора может потребоваться подбор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го же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щью можно изменять в некоторых пределах частоту ГЗЧ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честве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применяют любой двухполюсный переклю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тель. Для питания генератора требуется напряжение около 10 В, в качеств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2340000" y="404640"/>
            <a:ext cx="5111640" cy="5112000"/>
            <a:chOff x="2340000" y="404640"/>
            <a:chExt cx="5111640" cy="5112000"/>
          </a:xfrm>
        </p:grpSpPr>
        <p:pic>
          <p:nvPicPr>
            <p:cNvPr id="2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848320" y="404640"/>
              <a:ext cx="4603320" cy="45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340000" y="4991040"/>
              <a:ext cx="2467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 algn="just"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Рис. 25. Генератор звуковой частоты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7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Garamond"/>
                </a:rPr>
                <a:t>о — схема; б — конструкц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76000"/>
                </a:lnSpc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сточника можно использовать напряжение, имеющееся в осциллографе, либ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тарею «Крона». Тогда гнезда XI, ХЗ не потребуются, однако в этом случа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бходим выключатель пит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собирают на плате из прессшпана (рис. 25,6). Монтаж осущ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вляют простейшим способом: в плате вырезают отверстия для переме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ов !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,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, гнезд XI—ХЗ и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. Для постоянных рез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торов и конденсаторов прокалывают отверстия, в которые вставляют вывод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их деталей. Загнув выводы с противоположной стороны, их соединяют меж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у собой в соответствии с принципиальной схемой. Смонтированную пла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крепляют к панели ГЗЧ, причем для крепления используют переменный р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истор, гнезда и переключатель (рис. 25,6). На панели при необходимости ус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навливают выключатель питания. Панель помещают в корпус, боковые стен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и которого изготовлены из деревянных планок, а дно — из плотного карт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рку работоспособности генератора осуществляют с помощью осцил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лографа, подготовленного для измерения переменного тока. Входной кабел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(«Вход ~») присоединяют к гнезду Х2 генератора. Массы приборов объед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яют. Осциллограф включают и прогревают. Получив иа экране линию раз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ртки, подают напряжение питания на генератор. Регулируя ре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 («Выход») и регулятор «Усиление» осциллографа, устанавливают разм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циллограммы, удобный для наблюдения (30... 40 мм). Регуляторами «Част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» и «Синхронизация» и переключателе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 добиваются получения на эк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нескольких периодов, сигнала ГЗЧ. Осциллограмма должна появляться пр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оих положениях переключателя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A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частоты ГЗЧ. Генератор начинает ра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тать сразу же после включения. В случае отсутствия сигнала подбир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ожение резистора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8, заменяется транзистор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l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заведомо исправны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3. Генератор импульсов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импульсов (ГИ, рис. 26) вырабатывает напряжение П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разной формы с частотой повторения импульсов около 300 Гц и амплиту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 3 В. Он собран на двух транзисторах по схеме мультивибра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 представляет собой двухкаскадный усилитель, выход которого связан с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ходо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тличие от описанного ГЗЧ в данном случае соединение выхода со вход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водит к возникновению в генераторе прерывистых, импульсных колебан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зисто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 являются резисторами нагрузки транзисторов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 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онденсаторы С1 и С2 совместно с резисторами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2—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4 образуют цепи, с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щью которых формируется импульсное наряжение заданной частоты. При приведенных схеме номиналах элементов обеспечиваетсяП-образная форма колебаний. Ее можно из-менять переменным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, при эт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незначительных пределах изменяется частотаимпульсов. Выходное напряжение регулируютпеременным резистором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5. Конденсатор СЗ разделительный. Так как выходное сопротив-ление ГИ невелико,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нездам Х2, ХЗ можноподключать нагрузку с относительно малы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4105440" cy="2772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400" y="4149720"/>
            <a:ext cx="9169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ис 26 Принципиальная схе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противлением. Для питания генератора тре-  ма генератора импуль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уется напряжение около 10 В, поэтому используют тот же источник, что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ЗЧ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место транзисторов типа ШЗ можно применить любые другие из чис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аломощных транзисторов структуры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-р. Генератор импульсов собирают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лате из прессшпана, как и ГЗЧ. Плату прикрепляют к панели способом, по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занным на рис. 25,6, и устанавливают в корпусе, аналогичном корпусу ГЗЧ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енератор не требует какого-то налаживания и при исправных деталях начи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ет работать сразу же после подачи питающего напряжения. Проверку Г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уществляют, подав П-образное напряжение на осциллограф. Порядок здес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акой же, как при проверке ГЗЧ. Отсутствие сигнала на выходе генерато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жет быть вызвано неисправностью деталей или транзистор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7:45:07Z</dcterms:created>
  <dc:creator>Admin</dc:creator>
  <dc:description/>
  <dc:language>en-US</dc:language>
  <cp:lastModifiedBy>Admin</cp:lastModifiedBy>
  <dcterms:modified xsi:type="dcterms:W3CDTF">2011-05-18T05:01:02Z</dcterms:modified>
  <cp:revision>5</cp:revision>
  <dc:subject/>
  <dc:title>Слайд 1</dc:title>
</cp:coreProperties>
</file>